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</p:sldIdLst>
  <p:sldSz cx="9144000" cy="6858000"/>
  <p:notesSz cx="98710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9BA47-2436-4A3B-8F18-CC30F1A5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A03D2-FE5C-485B-9BCC-70B23D01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1941A-E1BC-457B-B3F0-B5A2F367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E32E0-7146-4EB1-9BCA-7CBCCD08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A6D2C-AF5D-4A79-A3EA-0579AED5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E3BAF-1EAA-48C2-B6CF-44DFCB08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658A2-F511-4297-96F4-CC6C8F4A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3E4BB-BCF7-492D-B965-514F9F53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46010-3A2B-4B6F-A4FB-58A87715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96B24-E69F-4FB8-9A21-462B0BF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B6E2F-1C6D-4271-99E9-C78374ED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6A0FC-AF63-47C1-B001-4F42E754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9BEB1F-691F-46BF-82A9-99F520D2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FDEE97-82E1-41E8-808E-1AFE0C6B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3F598-A04D-4222-BABB-6C170BC0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636B9F-A971-4CA6-B522-EC1EE78E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E6BC51-7871-43C8-A4FF-DAB56232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9A284-D06D-489D-8009-1ABAD016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EE671-62F7-40A8-B09F-B50A487D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5CC848-3CF7-451A-8823-3806C137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13489-96A6-49FD-97BE-E1DB9B32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8CCD45-0750-4214-851A-4AB7E892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C6A6A-D9E5-4C3E-A889-A588E079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14CA2F-397F-46B8-A049-E5B58D5D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3B158-AF62-4C20-83ED-DD7A86D7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C0C154-9514-445D-8230-8BF07BDC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35EF83-35C9-410D-8C88-4B0EB185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2891C6-A90B-4AC1-B09F-D4FEAFD5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D7F25-4A53-4239-8FA4-446345E8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7BEC45-698D-436C-8623-4AE469C9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E4D3A-609F-4E9A-99E5-935FDC8E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767BC-2714-4B97-BA71-BE451213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29E418-DDCB-4B22-8D1A-427D4EC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29D960-2A2B-47FF-BA21-17D57D7A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8AAF5-9D82-4CEB-81F7-A14481E9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7678D-192D-477D-BDC4-802FB65F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86A3B7-6170-4023-9D3A-8343043A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CD329D-11BD-4F0E-BCDE-F6DA2037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17C17C-B3E2-4898-AEA2-5D59A306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58B7EB-55CE-4F37-B99F-F26629E2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8BBB03-B34D-454A-BD0F-21BB7D84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C62959-70EA-476B-91DD-00E78240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12CE49-3CFF-4432-A074-54B36628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315DA9-8855-44A0-8DF9-D1A1B89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9067C2-29F8-4FF9-BF98-4E0A1AFB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7DE6FF-32C4-473C-9DB9-75F63673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7B2C41-007B-4CA9-8AFE-2BDA262A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ACBC46-AC34-40B9-8ED6-B194F6DD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eck 10"/>
          <p:cNvSpPr/>
          <p:nvPr/>
        </p:nvSpPr>
        <p:spPr>
          <a:xfrm>
            <a:off x="0" y="620640"/>
            <a:ext cx="9144000" cy="6553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65720"/>
            <a:ext cx="1173240" cy="576360"/>
          </a:xfrm>
          <a:prstGeom prst="rect">
            <a:avLst/>
          </a:prstGeom>
          <a:ln w="0">
            <a:noFill/>
          </a:ln>
        </p:spPr>
      </p:pic>
      <p:sp>
        <p:nvSpPr>
          <p:cNvPr id="4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AE82B68F-E538-4216-A105-3DE44E730D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uppieren 11"/>
          <p:cNvGrpSpPr/>
          <p:nvPr/>
        </p:nvGrpSpPr>
        <p:grpSpPr>
          <a:xfrm>
            <a:off x="7023240" y="96840"/>
            <a:ext cx="1911240" cy="541080"/>
            <a:chOff x="7023240" y="96840"/>
            <a:chExt cx="1911240" cy="541080"/>
          </a:xfrm>
        </p:grpSpPr>
        <p:pic>
          <p:nvPicPr>
            <p:cNvPr id="7" name="Picture 17" descr="fh_signet_ot"/>
            <p:cNvPicPr/>
            <p:nvPr/>
          </p:nvPicPr>
          <p:blipFill>
            <a:blip r:embed="rId3"/>
            <a:stretch/>
          </p:blipFill>
          <p:spPr>
            <a:xfrm>
              <a:off x="8563680" y="115920"/>
              <a:ext cx="37080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20"/>
            <p:cNvSpPr/>
            <p:nvPr/>
          </p:nvSpPr>
          <p:spPr>
            <a:xfrm>
              <a:off x="7027560" y="96840"/>
              <a:ext cx="146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ochschule Karlsruhe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chnik und Wirtsch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Text Box 21"/>
            <p:cNvSpPr/>
            <p:nvPr/>
          </p:nvSpPr>
          <p:spPr>
            <a:xfrm>
              <a:off x="7023240" y="452520"/>
              <a:ext cx="1514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ff0000"/>
                  </a:solidFill>
                  <a:latin typeface="Arial"/>
                </a:rPr>
                <a:t>UNIVERSITY OF APPLIED SCI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hteck 10"/>
          <p:cNvSpPr/>
          <p:nvPr/>
        </p:nvSpPr>
        <p:spPr>
          <a:xfrm>
            <a:off x="0" y="620640"/>
            <a:ext cx="9144000" cy="6553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65720"/>
            <a:ext cx="1173240" cy="576360"/>
          </a:xfrm>
          <a:prstGeom prst="rect">
            <a:avLst/>
          </a:prstGeom>
          <a:ln w="0">
            <a:noFill/>
          </a:ln>
        </p:spPr>
      </p:pic>
      <p:sp>
        <p:nvSpPr>
          <p:cNvPr id="48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118AE330-675B-468B-A6CC-EC00A44D114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uppieren 11"/>
          <p:cNvGrpSpPr/>
          <p:nvPr/>
        </p:nvGrpSpPr>
        <p:grpSpPr>
          <a:xfrm>
            <a:off x="7023240" y="96840"/>
            <a:ext cx="1911240" cy="541080"/>
            <a:chOff x="7023240" y="96840"/>
            <a:chExt cx="1911240" cy="541080"/>
          </a:xfrm>
        </p:grpSpPr>
        <p:pic>
          <p:nvPicPr>
            <p:cNvPr id="51" name="Picture 17" descr="fh_signet_ot"/>
            <p:cNvPicPr/>
            <p:nvPr/>
          </p:nvPicPr>
          <p:blipFill>
            <a:blip r:embed="rId3"/>
            <a:stretch/>
          </p:blipFill>
          <p:spPr>
            <a:xfrm>
              <a:off x="8563680" y="115920"/>
              <a:ext cx="37080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20"/>
            <p:cNvSpPr/>
            <p:nvPr/>
          </p:nvSpPr>
          <p:spPr>
            <a:xfrm>
              <a:off x="7027560" y="96840"/>
              <a:ext cx="146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ochschule Karlsruhe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chnik und Wirtsch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21"/>
            <p:cNvSpPr/>
            <p:nvPr/>
          </p:nvSpPr>
          <p:spPr>
            <a:xfrm>
              <a:off x="7023240" y="452520"/>
              <a:ext cx="1514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ff0000"/>
                  </a:solidFill>
                  <a:latin typeface="Arial"/>
                </a:rPr>
                <a:t>UNIVERSITY OF APPLIED SCI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hteck 10"/>
          <p:cNvSpPr/>
          <p:nvPr/>
        </p:nvSpPr>
        <p:spPr>
          <a:xfrm>
            <a:off x="0" y="620640"/>
            <a:ext cx="9144000" cy="6553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65720"/>
            <a:ext cx="1173240" cy="576360"/>
          </a:xfrm>
          <a:prstGeom prst="rect">
            <a:avLst/>
          </a:prstGeom>
          <a:ln w="0">
            <a:noFill/>
          </a:ln>
        </p:spPr>
      </p:pic>
      <p:sp>
        <p:nvSpPr>
          <p:cNvPr id="93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AB23F1F3-83AF-4F19-8684-7D3677D5A0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uppieren 11"/>
          <p:cNvGrpSpPr/>
          <p:nvPr/>
        </p:nvGrpSpPr>
        <p:grpSpPr>
          <a:xfrm>
            <a:off x="7023240" y="96840"/>
            <a:ext cx="1911240" cy="541080"/>
            <a:chOff x="7023240" y="96840"/>
            <a:chExt cx="1911240" cy="541080"/>
          </a:xfrm>
        </p:grpSpPr>
        <p:pic>
          <p:nvPicPr>
            <p:cNvPr id="96" name="Picture 17" descr="fh_signet_ot"/>
            <p:cNvPicPr/>
            <p:nvPr/>
          </p:nvPicPr>
          <p:blipFill>
            <a:blip r:embed="rId3"/>
            <a:stretch/>
          </p:blipFill>
          <p:spPr>
            <a:xfrm>
              <a:off x="8563680" y="115920"/>
              <a:ext cx="37080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20"/>
            <p:cNvSpPr/>
            <p:nvPr/>
          </p:nvSpPr>
          <p:spPr>
            <a:xfrm>
              <a:off x="7027560" y="96840"/>
              <a:ext cx="146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ochschule Karlsruhe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chnik und Wirtsch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1"/>
            <p:cNvSpPr/>
            <p:nvPr/>
          </p:nvSpPr>
          <p:spPr>
            <a:xfrm>
              <a:off x="7023240" y="452520"/>
              <a:ext cx="1514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ff0000"/>
                  </a:solidFill>
                  <a:latin typeface="Arial"/>
                </a:rPr>
                <a:t>UNIVERSITY OF APPLIED SCI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699A-F58E-4BC2-B47A-98EA8333F3C7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hteck 10"/>
          <p:cNvSpPr/>
          <p:nvPr/>
        </p:nvSpPr>
        <p:spPr>
          <a:xfrm>
            <a:off x="0" y="620640"/>
            <a:ext cx="9144000" cy="6553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65720"/>
            <a:ext cx="1173240" cy="576360"/>
          </a:xfrm>
          <a:prstGeom prst="rect">
            <a:avLst/>
          </a:prstGeom>
          <a:ln w="0">
            <a:noFill/>
          </a:ln>
        </p:spPr>
      </p:pic>
      <p:sp>
        <p:nvSpPr>
          <p:cNvPr id="142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0E36621A-B713-45CB-B196-B2ADF0424BF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uppieren 11"/>
          <p:cNvGrpSpPr/>
          <p:nvPr/>
        </p:nvGrpSpPr>
        <p:grpSpPr>
          <a:xfrm>
            <a:off x="7023240" y="96840"/>
            <a:ext cx="1911240" cy="541080"/>
            <a:chOff x="7023240" y="96840"/>
            <a:chExt cx="1911240" cy="541080"/>
          </a:xfrm>
        </p:grpSpPr>
        <p:pic>
          <p:nvPicPr>
            <p:cNvPr id="145" name="Picture 17" descr="fh_signet_ot"/>
            <p:cNvPicPr/>
            <p:nvPr/>
          </p:nvPicPr>
          <p:blipFill>
            <a:blip r:embed="rId3"/>
            <a:stretch/>
          </p:blipFill>
          <p:spPr>
            <a:xfrm>
              <a:off x="8563680" y="115920"/>
              <a:ext cx="37080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20"/>
            <p:cNvSpPr/>
            <p:nvPr/>
          </p:nvSpPr>
          <p:spPr>
            <a:xfrm>
              <a:off x="7027560" y="96840"/>
              <a:ext cx="146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ochschule Karlsruhe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chnik und Wirtsch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7023240" y="452520"/>
              <a:ext cx="1514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ff0000"/>
                  </a:solidFill>
                  <a:latin typeface="Arial"/>
                </a:rPr>
                <a:t>UNIVERSITY OF APPLIED SCI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CC97-5208-47F9-8717-87FDF3CF9C3F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hteck 10"/>
          <p:cNvSpPr/>
          <p:nvPr/>
        </p:nvSpPr>
        <p:spPr>
          <a:xfrm>
            <a:off x="0" y="620640"/>
            <a:ext cx="9144000" cy="6553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65720"/>
            <a:ext cx="1173240" cy="576360"/>
          </a:xfrm>
          <a:prstGeom prst="rect">
            <a:avLst/>
          </a:prstGeom>
          <a:ln w="0">
            <a:noFill/>
          </a:ln>
        </p:spPr>
      </p:pic>
      <p:sp>
        <p:nvSpPr>
          <p:cNvPr id="190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8512554A-C720-4214-AC34-6F75532CBA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uppieren 11"/>
          <p:cNvGrpSpPr/>
          <p:nvPr/>
        </p:nvGrpSpPr>
        <p:grpSpPr>
          <a:xfrm>
            <a:off x="7023240" y="96840"/>
            <a:ext cx="1911240" cy="541080"/>
            <a:chOff x="7023240" y="96840"/>
            <a:chExt cx="1911240" cy="541080"/>
          </a:xfrm>
        </p:grpSpPr>
        <p:pic>
          <p:nvPicPr>
            <p:cNvPr id="193" name="Picture 17" descr="fh_signet_ot"/>
            <p:cNvPicPr/>
            <p:nvPr/>
          </p:nvPicPr>
          <p:blipFill>
            <a:blip r:embed="rId3"/>
            <a:stretch/>
          </p:blipFill>
          <p:spPr>
            <a:xfrm>
              <a:off x="8563680" y="115920"/>
              <a:ext cx="37080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20"/>
            <p:cNvSpPr/>
            <p:nvPr/>
          </p:nvSpPr>
          <p:spPr>
            <a:xfrm>
              <a:off x="7027560" y="96840"/>
              <a:ext cx="146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ochschule Karlsruhe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chnik und Wirtsch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21"/>
            <p:cNvSpPr/>
            <p:nvPr/>
          </p:nvSpPr>
          <p:spPr>
            <a:xfrm>
              <a:off x="7023240" y="452520"/>
              <a:ext cx="1514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ff0000"/>
                  </a:solidFill>
                  <a:latin typeface="Arial"/>
                </a:rPr>
                <a:t>UNIVERSITY OF APPLIED SCI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FB49-8DBB-44E6-A327-4BF7F3252E68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hteck 10"/>
          <p:cNvSpPr/>
          <p:nvPr/>
        </p:nvSpPr>
        <p:spPr>
          <a:xfrm>
            <a:off x="0" y="620640"/>
            <a:ext cx="9144000" cy="655344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65720"/>
            <a:ext cx="1173240" cy="576360"/>
          </a:xfrm>
          <a:prstGeom prst="rect">
            <a:avLst/>
          </a:prstGeom>
          <a:ln w="0">
            <a:noFill/>
          </a:ln>
        </p:spPr>
      </p:pic>
      <p:sp>
        <p:nvSpPr>
          <p:cNvPr id="238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23590DCB-7804-4B18-90E7-4F76EC11FE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3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uppieren 11"/>
          <p:cNvGrpSpPr/>
          <p:nvPr/>
        </p:nvGrpSpPr>
        <p:grpSpPr>
          <a:xfrm>
            <a:off x="7023240" y="96840"/>
            <a:ext cx="1911240" cy="541080"/>
            <a:chOff x="7023240" y="96840"/>
            <a:chExt cx="1911240" cy="541080"/>
          </a:xfrm>
        </p:grpSpPr>
        <p:pic>
          <p:nvPicPr>
            <p:cNvPr id="241" name="Picture 17" descr="fh_signet_ot"/>
            <p:cNvPicPr/>
            <p:nvPr/>
          </p:nvPicPr>
          <p:blipFill>
            <a:blip r:embed="rId3"/>
            <a:stretch/>
          </p:blipFill>
          <p:spPr>
            <a:xfrm>
              <a:off x="8563680" y="115920"/>
              <a:ext cx="37080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20"/>
            <p:cNvSpPr/>
            <p:nvPr/>
          </p:nvSpPr>
          <p:spPr>
            <a:xfrm>
              <a:off x="7027560" y="96840"/>
              <a:ext cx="146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ochschule Karlsruhe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chnik und Wirtsch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1"/>
            <p:cNvSpPr/>
            <p:nvPr/>
          </p:nvSpPr>
          <p:spPr>
            <a:xfrm>
              <a:off x="7023240" y="452520"/>
              <a:ext cx="1514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" spc="-1" strike="noStrike">
                  <a:solidFill>
                    <a:srgbClr val="ff0000"/>
                  </a:solidFill>
                  <a:latin typeface="Arial"/>
                </a:rPr>
                <a:t>UNIVERSITY OF APPLIED SCIENC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EB06-59B0-42BD-A3A7-FBA404916502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Übungen zu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  <a:ea typeface="Arial"/>
              </a:rPr>
              <a:t>thematischen Karten</a:t>
            </a:r>
            <a:br>
              <a:rPr sz="4400"/>
            </a:b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Arial"/>
                <a:ea typeface="Arial"/>
              </a:rPr>
              <a:t>Lösung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Grafik 1" descr=""/>
          <p:cNvPicPr/>
          <p:nvPr/>
        </p:nvPicPr>
        <p:blipFill>
          <a:blip r:embed="rId1"/>
          <a:stretch/>
        </p:blipFill>
        <p:spPr>
          <a:xfrm>
            <a:off x="6875640" y="3419640"/>
            <a:ext cx="2166840" cy="1223640"/>
          </a:xfrm>
          <a:prstGeom prst="rect">
            <a:avLst/>
          </a:prstGeom>
          <a:ln w="0">
            <a:noFill/>
          </a:ln>
        </p:spPr>
      </p:pic>
      <p:pic>
        <p:nvPicPr>
          <p:cNvPr id="286" name="Grafik 1" descr=""/>
          <p:cNvPicPr/>
          <p:nvPr/>
        </p:nvPicPr>
        <p:blipFill>
          <a:blip r:embed="rId2"/>
          <a:stretch/>
        </p:blipFill>
        <p:spPr>
          <a:xfrm>
            <a:off x="5433840" y="5065560"/>
            <a:ext cx="2067120" cy="1225800"/>
          </a:xfrm>
          <a:prstGeom prst="rect">
            <a:avLst/>
          </a:prstGeom>
          <a:ln w="0">
            <a:noFill/>
          </a:ln>
        </p:spPr>
      </p:pic>
      <p:pic>
        <p:nvPicPr>
          <p:cNvPr id="287" name="Grafik 1" descr=""/>
          <p:cNvPicPr/>
          <p:nvPr/>
        </p:nvPicPr>
        <p:blipFill>
          <a:blip r:embed="rId3"/>
          <a:stretch/>
        </p:blipFill>
        <p:spPr>
          <a:xfrm>
            <a:off x="7118280" y="4395960"/>
            <a:ext cx="1141560" cy="1569960"/>
          </a:xfrm>
          <a:prstGeom prst="rect">
            <a:avLst/>
          </a:prstGeom>
          <a:ln w="0">
            <a:noFill/>
          </a:ln>
        </p:spPr>
      </p:pic>
      <p:pic>
        <p:nvPicPr>
          <p:cNvPr id="288" name="Grafik 1" descr=""/>
          <p:cNvPicPr/>
          <p:nvPr/>
        </p:nvPicPr>
        <p:blipFill>
          <a:blip r:embed="rId4"/>
          <a:stretch/>
        </p:blipFill>
        <p:spPr>
          <a:xfrm>
            <a:off x="149400" y="2754360"/>
            <a:ext cx="1164960" cy="1538280"/>
          </a:xfrm>
          <a:prstGeom prst="rect">
            <a:avLst/>
          </a:prstGeom>
          <a:ln w="0">
            <a:noFill/>
          </a:ln>
        </p:spPr>
      </p:pic>
      <p:pic>
        <p:nvPicPr>
          <p:cNvPr id="289" name="Grafik 1" descr=""/>
          <p:cNvPicPr/>
          <p:nvPr/>
        </p:nvPicPr>
        <p:blipFill>
          <a:blip r:embed="rId5"/>
          <a:stretch/>
        </p:blipFill>
        <p:spPr>
          <a:xfrm>
            <a:off x="407880" y="4119480"/>
            <a:ext cx="1106640" cy="1511280"/>
          </a:xfrm>
          <a:prstGeom prst="rect">
            <a:avLst/>
          </a:prstGeom>
          <a:ln w="0">
            <a:noFill/>
          </a:ln>
        </p:spPr>
      </p:pic>
      <p:pic>
        <p:nvPicPr>
          <p:cNvPr id="290" name="Grafik 1" descr=""/>
          <p:cNvPicPr/>
          <p:nvPr/>
        </p:nvPicPr>
        <p:blipFill>
          <a:blip r:embed="rId6"/>
          <a:stretch/>
        </p:blipFill>
        <p:spPr>
          <a:xfrm>
            <a:off x="1403280" y="4668840"/>
            <a:ext cx="1860480" cy="1298520"/>
          </a:xfrm>
          <a:prstGeom prst="rect">
            <a:avLst/>
          </a:prstGeom>
          <a:ln w="0">
            <a:noFill/>
          </a:ln>
        </p:spPr>
      </p:pic>
      <p:pic>
        <p:nvPicPr>
          <p:cNvPr id="291" name="Grafik 1" descr=""/>
          <p:cNvPicPr/>
          <p:nvPr/>
        </p:nvPicPr>
        <p:blipFill>
          <a:blip r:embed="rId7"/>
          <a:stretch/>
        </p:blipFill>
        <p:spPr>
          <a:xfrm>
            <a:off x="3386160" y="4871880"/>
            <a:ext cx="17622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47880" y="1038240"/>
            <a:ext cx="7772400" cy="7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ßenverkehrsunfälle in Karlsruhe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613560" cy="4643640"/>
          </a:xfrm>
          <a:prstGeom prst="rect">
            <a:avLst/>
          </a:prstGeom>
          <a:ln w="0">
            <a:noFill/>
          </a:ln>
        </p:spPr>
      </p:pic>
      <p:grpSp>
        <p:nvGrpSpPr>
          <p:cNvPr id="328" name="Gruppieren 3"/>
          <p:cNvGrpSpPr/>
          <p:nvPr/>
        </p:nvGrpSpPr>
        <p:grpSpPr>
          <a:xfrm>
            <a:off x="49320" y="200160"/>
            <a:ext cx="7759800" cy="1815840"/>
            <a:chOff x="49320" y="200160"/>
            <a:chExt cx="7759800" cy="1815840"/>
          </a:xfrm>
        </p:grpSpPr>
        <p:sp>
          <p:nvSpPr>
            <p:cNvPr id="329" name="Textfeld 4"/>
            <p:cNvSpPr/>
            <p:nvPr/>
          </p:nvSpPr>
          <p:spPr>
            <a:xfrm>
              <a:off x="954720" y="832680"/>
              <a:ext cx="685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läutern Sie Ihre Verbesserungsvorschläge zur Kar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hteck 5"/>
            <p:cNvSpPr/>
            <p:nvPr/>
          </p:nvSpPr>
          <p:spPr>
            <a:xfrm>
              <a:off x="900000" y="200160"/>
              <a:ext cx="57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Übungen zu thematischen Kar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feld 6"/>
            <p:cNvSpPr/>
            <p:nvPr/>
          </p:nvSpPr>
          <p:spPr>
            <a:xfrm>
              <a:off x="49320" y="1556280"/>
              <a:ext cx="8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Rechteck 8"/>
          <p:cNvSpPr/>
          <p:nvPr/>
        </p:nvSpPr>
        <p:spPr>
          <a:xfrm>
            <a:off x="4863600" y="6024600"/>
            <a:ext cx="103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A_Unfall.pd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1724040"/>
            <a:ext cx="89996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47880" y="2130120"/>
            <a:ext cx="376848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ölkerungsdicht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en-Württemberg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hteck 9"/>
          <p:cNvSpPr/>
          <p:nvPr/>
        </p:nvSpPr>
        <p:spPr>
          <a:xfrm>
            <a:off x="3138840" y="5832360"/>
            <a:ext cx="165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BAWUE_Bev_Dichte.pd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feld 12"/>
          <p:cNvSpPr/>
          <p:nvPr/>
        </p:nvSpPr>
        <p:spPr>
          <a:xfrm>
            <a:off x="946440" y="83664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läutern Sie Ih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svorschlä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Ka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feld 13"/>
          <p:cNvSpPr/>
          <p:nvPr/>
        </p:nvSpPr>
        <p:spPr>
          <a:xfrm>
            <a:off x="49320" y="8334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hteck 14"/>
          <p:cNvSpPr/>
          <p:nvPr/>
        </p:nvSpPr>
        <p:spPr>
          <a:xfrm>
            <a:off x="900000" y="2001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Übungen zu thematischen K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4819680" y="684360"/>
            <a:ext cx="3927600" cy="54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rcRect l="0" t="0" r="0" b="50009"/>
          <a:stretch/>
        </p:blipFill>
        <p:spPr>
          <a:xfrm>
            <a:off x="0" y="1314360"/>
            <a:ext cx="899964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47880" y="2130120"/>
            <a:ext cx="398448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ßenverkehrsunfäll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aden-Württemberg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4859280" y="692280"/>
            <a:ext cx="3848040" cy="5405400"/>
          </a:xfrm>
          <a:prstGeom prst="rect">
            <a:avLst/>
          </a:prstGeom>
          <a:ln w="0">
            <a:noFill/>
          </a:ln>
        </p:spPr>
      </p:pic>
      <p:sp>
        <p:nvSpPr>
          <p:cNvPr id="350" name="Textfeld 6"/>
          <p:cNvSpPr/>
          <p:nvPr/>
        </p:nvSpPr>
        <p:spPr>
          <a:xfrm>
            <a:off x="946440" y="83340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läutern Sie Ih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svorschlä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Ka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hteck 7"/>
          <p:cNvSpPr/>
          <p:nvPr/>
        </p:nvSpPr>
        <p:spPr>
          <a:xfrm>
            <a:off x="900000" y="2001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Übungen zu thematischen K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feld 8"/>
          <p:cNvSpPr/>
          <p:nvPr/>
        </p:nvSpPr>
        <p:spPr>
          <a:xfrm>
            <a:off x="49320" y="8334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hteck 3"/>
          <p:cNvSpPr/>
          <p:nvPr/>
        </p:nvSpPr>
        <p:spPr>
          <a:xfrm>
            <a:off x="2946600" y="5853240"/>
            <a:ext cx="1909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BAWUE_Strassenunfaelle.pd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rcRect l="0" t="50009" r="0" b="0"/>
          <a:stretch/>
        </p:blipFill>
        <p:spPr>
          <a:xfrm>
            <a:off x="0" y="3429000"/>
            <a:ext cx="89996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47880" y="1141200"/>
            <a:ext cx="6145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slosigkeit in Karlsruhe (1)“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57927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94" name="Picture 2" descr="S:\1_Gerald_Schule\0_FB\Geo_FB\ZPG\ZPG_4_Geo\1 Kartographie\Theorie Kartographie\_Material HS KA Kartographie\thematische Karten Übungen\Gruppe_a_Karlsruhe\Karten\KA_Einw_Arbeitslose.jpg"/>
          <p:cNvPicPr/>
          <p:nvPr/>
        </p:nvPicPr>
        <p:blipFill>
          <a:blip r:embed="rId1"/>
          <a:stretch/>
        </p:blipFill>
        <p:spPr>
          <a:xfrm>
            <a:off x="947880" y="1557360"/>
            <a:ext cx="6624360" cy="4627440"/>
          </a:xfrm>
          <a:prstGeom prst="rect">
            <a:avLst/>
          </a:prstGeom>
          <a:ln w="0">
            <a:noFill/>
          </a:ln>
        </p:spPr>
      </p:pic>
      <p:grpSp>
        <p:nvGrpSpPr>
          <p:cNvPr id="295" name="Gruppieren 6"/>
          <p:cNvGrpSpPr/>
          <p:nvPr/>
        </p:nvGrpSpPr>
        <p:grpSpPr>
          <a:xfrm>
            <a:off x="49320" y="200160"/>
            <a:ext cx="7759800" cy="1815840"/>
            <a:chOff x="49320" y="200160"/>
            <a:chExt cx="7759800" cy="1815840"/>
          </a:xfrm>
        </p:grpSpPr>
        <p:sp>
          <p:nvSpPr>
            <p:cNvPr id="296" name="Textfeld 3"/>
            <p:cNvSpPr/>
            <p:nvPr/>
          </p:nvSpPr>
          <p:spPr>
            <a:xfrm>
              <a:off x="954720" y="832680"/>
              <a:ext cx="685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läutern Sie Ihre Verbesserungsvorschläge zur Kar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hteck 4"/>
            <p:cNvSpPr/>
            <p:nvPr/>
          </p:nvSpPr>
          <p:spPr>
            <a:xfrm>
              <a:off x="900000" y="200160"/>
              <a:ext cx="57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Übungen zu thematischen Kar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feld 5"/>
            <p:cNvSpPr/>
            <p:nvPr/>
          </p:nvSpPr>
          <p:spPr>
            <a:xfrm>
              <a:off x="49320" y="1556280"/>
              <a:ext cx="8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hteck 7"/>
          <p:cNvSpPr/>
          <p:nvPr/>
        </p:nvSpPr>
        <p:spPr>
          <a:xfrm>
            <a:off x="5512320" y="5853240"/>
            <a:ext cx="203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A_Stadt_Einw_Arbeitslose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07640" y="1988640"/>
            <a:ext cx="3924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utschland: Bevölkerungs- entwicklung pro Bundesland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feld 4"/>
          <p:cNvSpPr/>
          <p:nvPr/>
        </p:nvSpPr>
        <p:spPr>
          <a:xfrm>
            <a:off x="946440" y="83340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läutern Sie Ih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svorschlä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Ka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hteck 5"/>
          <p:cNvSpPr/>
          <p:nvPr/>
        </p:nvSpPr>
        <p:spPr>
          <a:xfrm>
            <a:off x="900000" y="2001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Übungen zu thematischen K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feld 6"/>
          <p:cNvSpPr/>
          <p:nvPr/>
        </p:nvSpPr>
        <p:spPr>
          <a:xfrm>
            <a:off x="49320" y="8334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uppieren 7"/>
          <p:cNvGrpSpPr/>
          <p:nvPr/>
        </p:nvGrpSpPr>
        <p:grpSpPr>
          <a:xfrm>
            <a:off x="4932360" y="692280"/>
            <a:ext cx="3819600" cy="5400720"/>
            <a:chOff x="4932360" y="692280"/>
            <a:chExt cx="3819600" cy="5400720"/>
          </a:xfrm>
        </p:grpSpPr>
        <p:pic>
          <p:nvPicPr>
            <p:cNvPr id="364" name="Picture 2" descr=""/>
            <p:cNvPicPr/>
            <p:nvPr/>
          </p:nvPicPr>
          <p:blipFill>
            <a:blip r:embed="rId1"/>
            <a:stretch/>
          </p:blipFill>
          <p:spPr>
            <a:xfrm>
              <a:off x="4932360" y="692280"/>
              <a:ext cx="381960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hteck 3"/>
            <p:cNvSpPr/>
            <p:nvPr/>
          </p:nvSpPr>
          <p:spPr>
            <a:xfrm>
              <a:off x="4970160" y="5554800"/>
              <a:ext cx="610920" cy="50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Rechteck 8"/>
          <p:cNvSpPr/>
          <p:nvPr/>
        </p:nvSpPr>
        <p:spPr>
          <a:xfrm>
            <a:off x="2648880" y="5781600"/>
            <a:ext cx="220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_Bevölkerungsentwicklung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1643040"/>
            <a:ext cx="89996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96480" y="2153880"/>
            <a:ext cx="38149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utschland: Einwohner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Bundesland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4349880" y="692280"/>
            <a:ext cx="4109760" cy="5400720"/>
          </a:xfrm>
          <a:prstGeom prst="rect">
            <a:avLst/>
          </a:prstGeom>
          <a:ln w="0">
            <a:noFill/>
          </a:ln>
        </p:spPr>
      </p:pic>
      <p:sp>
        <p:nvSpPr>
          <p:cNvPr id="373" name="Textfeld 4"/>
          <p:cNvSpPr/>
          <p:nvPr/>
        </p:nvSpPr>
        <p:spPr>
          <a:xfrm>
            <a:off x="946440" y="83340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läutern Sie Ihr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svorschlä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r Ka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hteck 5"/>
          <p:cNvSpPr/>
          <p:nvPr/>
        </p:nvSpPr>
        <p:spPr>
          <a:xfrm>
            <a:off x="900000" y="2001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Übungen zu thematischen K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feld 6"/>
          <p:cNvSpPr/>
          <p:nvPr/>
        </p:nvSpPr>
        <p:spPr>
          <a:xfrm>
            <a:off x="49320" y="8334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hteck 3"/>
          <p:cNvSpPr/>
          <p:nvPr/>
        </p:nvSpPr>
        <p:spPr>
          <a:xfrm>
            <a:off x="3070080" y="57927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_Einwohner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0" y="1609560"/>
            <a:ext cx="89996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76320" y="10508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nutzer und Facebookuser in Europa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11240" y="1593720"/>
            <a:ext cx="6369120" cy="4491000"/>
          </a:xfrm>
          <a:prstGeom prst="rect">
            <a:avLst/>
          </a:prstGeom>
          <a:ln w="0">
            <a:noFill/>
          </a:ln>
        </p:spPr>
      </p:pic>
      <p:grpSp>
        <p:nvGrpSpPr>
          <p:cNvPr id="384" name="Gruppieren 4"/>
          <p:cNvGrpSpPr/>
          <p:nvPr/>
        </p:nvGrpSpPr>
        <p:grpSpPr>
          <a:xfrm>
            <a:off x="49320" y="200160"/>
            <a:ext cx="7759800" cy="1815840"/>
            <a:chOff x="49320" y="200160"/>
            <a:chExt cx="7759800" cy="1815840"/>
          </a:xfrm>
        </p:grpSpPr>
        <p:sp>
          <p:nvSpPr>
            <p:cNvPr id="385" name="Textfeld 5"/>
            <p:cNvSpPr/>
            <p:nvPr/>
          </p:nvSpPr>
          <p:spPr>
            <a:xfrm>
              <a:off x="954720" y="832680"/>
              <a:ext cx="685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läutern Sie Ihre Verbesserungsvorschläge zur Kar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hteck 6"/>
            <p:cNvSpPr/>
            <p:nvPr/>
          </p:nvSpPr>
          <p:spPr>
            <a:xfrm>
              <a:off x="900000" y="200160"/>
              <a:ext cx="57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Übungen zu thematischen Kar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feld 7"/>
            <p:cNvSpPr/>
            <p:nvPr/>
          </p:nvSpPr>
          <p:spPr>
            <a:xfrm>
              <a:off x="49320" y="1556280"/>
              <a:ext cx="8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Rechteck 3"/>
          <p:cNvSpPr/>
          <p:nvPr/>
        </p:nvSpPr>
        <p:spPr>
          <a:xfrm>
            <a:off x="7461720" y="580860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ur_facebook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0" y="1857240"/>
            <a:ext cx="89996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ölkerungsdichte Europa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hteck 3"/>
          <p:cNvSpPr/>
          <p:nvPr/>
        </p:nvSpPr>
        <p:spPr>
          <a:xfrm>
            <a:off x="7462440" y="579744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ur_bev_dichte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042920" y="1682640"/>
            <a:ext cx="6345360" cy="4373640"/>
          </a:xfrm>
          <a:prstGeom prst="rect">
            <a:avLst/>
          </a:prstGeom>
          <a:ln w="0">
            <a:noFill/>
          </a:ln>
        </p:spPr>
      </p:pic>
      <p:grpSp>
        <p:nvGrpSpPr>
          <p:cNvPr id="396" name="Gruppieren 5"/>
          <p:cNvGrpSpPr/>
          <p:nvPr/>
        </p:nvGrpSpPr>
        <p:grpSpPr>
          <a:xfrm>
            <a:off x="49320" y="200160"/>
            <a:ext cx="7759800" cy="1815840"/>
            <a:chOff x="49320" y="200160"/>
            <a:chExt cx="7759800" cy="1815840"/>
          </a:xfrm>
        </p:grpSpPr>
        <p:sp>
          <p:nvSpPr>
            <p:cNvPr id="397" name="Textfeld 6"/>
            <p:cNvSpPr/>
            <p:nvPr/>
          </p:nvSpPr>
          <p:spPr>
            <a:xfrm>
              <a:off x="954720" y="832680"/>
              <a:ext cx="685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läutern Sie Ihre Verbesserungsvorschläge zur Kar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hteck 7"/>
            <p:cNvSpPr/>
            <p:nvPr/>
          </p:nvSpPr>
          <p:spPr>
            <a:xfrm>
              <a:off x="900000" y="200160"/>
              <a:ext cx="57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Übungen zu thematischen Kar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feld 8"/>
            <p:cNvSpPr/>
            <p:nvPr/>
          </p:nvSpPr>
          <p:spPr>
            <a:xfrm>
              <a:off x="49320" y="1556280"/>
              <a:ext cx="8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0" y="1166760"/>
            <a:ext cx="89996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89996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55800" y="1125360"/>
            <a:ext cx="77724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tromproduktion in Mio.-Kilowattstunden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971640" y="1733400"/>
            <a:ext cx="7488000" cy="4359600"/>
          </a:xfrm>
          <a:prstGeom prst="rect">
            <a:avLst/>
          </a:prstGeom>
          <a:ln w="0">
            <a:noFill/>
          </a:ln>
        </p:spPr>
      </p:pic>
      <p:grpSp>
        <p:nvGrpSpPr>
          <p:cNvPr id="407" name="Gruppieren 4"/>
          <p:cNvGrpSpPr/>
          <p:nvPr/>
        </p:nvGrpSpPr>
        <p:grpSpPr>
          <a:xfrm>
            <a:off x="49320" y="200160"/>
            <a:ext cx="7759800" cy="1815840"/>
            <a:chOff x="49320" y="200160"/>
            <a:chExt cx="7759800" cy="1815840"/>
          </a:xfrm>
        </p:grpSpPr>
        <p:sp>
          <p:nvSpPr>
            <p:cNvPr id="408" name="Textfeld 5"/>
            <p:cNvSpPr/>
            <p:nvPr/>
          </p:nvSpPr>
          <p:spPr>
            <a:xfrm>
              <a:off x="954720" y="832680"/>
              <a:ext cx="685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läutern Sie Ihre Verbesserungsvorschläge zur Kar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hteck 6"/>
            <p:cNvSpPr/>
            <p:nvPr/>
          </p:nvSpPr>
          <p:spPr>
            <a:xfrm>
              <a:off x="900000" y="200160"/>
              <a:ext cx="57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Übungen zu thematischen Kar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feld 7"/>
            <p:cNvSpPr/>
            <p:nvPr/>
          </p:nvSpPr>
          <p:spPr>
            <a:xfrm>
              <a:off x="49320" y="1556280"/>
              <a:ext cx="8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1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Rechteck 3"/>
          <p:cNvSpPr/>
          <p:nvPr/>
        </p:nvSpPr>
        <p:spPr>
          <a:xfrm rot="16200000">
            <a:off x="7715520" y="5066640"/>
            <a:ext cx="178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lt_Atomstrom_neu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0" y="1281240"/>
            <a:ext cx="89996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00000" y="118224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fer durch Naturkatastrophen im Vergleich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1"/>
          <a:stretch/>
        </p:blipFill>
        <p:spPr>
          <a:xfrm>
            <a:off x="971640" y="1776240"/>
            <a:ext cx="7777080" cy="4245120"/>
          </a:xfrm>
          <a:prstGeom prst="rect">
            <a:avLst/>
          </a:prstGeom>
          <a:ln w="0">
            <a:noFill/>
          </a:ln>
        </p:spPr>
      </p:pic>
      <p:grpSp>
        <p:nvGrpSpPr>
          <p:cNvPr id="418" name="Gruppieren 4"/>
          <p:cNvGrpSpPr/>
          <p:nvPr/>
        </p:nvGrpSpPr>
        <p:grpSpPr>
          <a:xfrm>
            <a:off x="49320" y="200160"/>
            <a:ext cx="7759800" cy="1815840"/>
            <a:chOff x="49320" y="200160"/>
            <a:chExt cx="7759800" cy="1815840"/>
          </a:xfrm>
        </p:grpSpPr>
        <p:sp>
          <p:nvSpPr>
            <p:cNvPr id="419" name="Textfeld 5"/>
            <p:cNvSpPr/>
            <p:nvPr/>
          </p:nvSpPr>
          <p:spPr>
            <a:xfrm>
              <a:off x="954720" y="832680"/>
              <a:ext cx="685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läutern Sie Ihre Verbesserungsvorschläge zur Kar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hteck 6"/>
            <p:cNvSpPr/>
            <p:nvPr/>
          </p:nvSpPr>
          <p:spPr>
            <a:xfrm>
              <a:off x="900000" y="200160"/>
              <a:ext cx="57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Übungen zu thematischen Kar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feld 7"/>
            <p:cNvSpPr/>
            <p:nvPr/>
          </p:nvSpPr>
          <p:spPr>
            <a:xfrm>
              <a:off x="49320" y="1556280"/>
              <a:ext cx="8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Rechteck 3"/>
          <p:cNvSpPr/>
          <p:nvPr/>
        </p:nvSpPr>
        <p:spPr>
          <a:xfrm rot="16200000">
            <a:off x="6612120" y="36687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lt_Opfer_durch_Naturkatastrophen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0" y="1595520"/>
            <a:ext cx="89996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920" y="57240"/>
            <a:ext cx="61149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Quellenhinwe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AutoShape 5"/>
          <p:cNvSpPr/>
          <p:nvPr/>
        </p:nvSpPr>
        <p:spPr>
          <a:xfrm>
            <a:off x="168120" y="-731880"/>
            <a:ext cx="133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320760" y="-579600"/>
            <a:ext cx="1333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9" descr="http://www.fh-studiengang.de/fernstudium/Bilder/hska.gif"/>
          <p:cNvPicPr/>
          <p:nvPr/>
        </p:nvPicPr>
        <p:blipFill>
          <a:blip r:embed="rId1"/>
          <a:stretch/>
        </p:blipFill>
        <p:spPr>
          <a:xfrm>
            <a:off x="168120" y="-1165320"/>
            <a:ext cx="35244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31" name="Gruppieren 5"/>
          <p:cNvGrpSpPr/>
          <p:nvPr/>
        </p:nvGrpSpPr>
        <p:grpSpPr>
          <a:xfrm>
            <a:off x="395280" y="1052640"/>
            <a:ext cx="8280360" cy="3528720"/>
            <a:chOff x="395280" y="1052640"/>
            <a:chExt cx="8280360" cy="3528720"/>
          </a:xfrm>
        </p:grpSpPr>
        <p:sp>
          <p:nvSpPr>
            <p:cNvPr id="432" name="Text Box 2"/>
            <p:cNvSpPr/>
            <p:nvPr/>
          </p:nvSpPr>
          <p:spPr>
            <a:xfrm>
              <a:off x="395280" y="1052640"/>
              <a:ext cx="8280360" cy="35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ie Karten wurden generiert von Studenten der Hochschule Karlsruhe unter der Leitung von Christine Radestock, M. Sc., wissenschaftliche Mitarbeiterin an der Fakultät für Informationsmanagement und Medi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it freundlicher Genehmigung werden die Materialien zur Verwendung im Geographie-Unterricht an den Schulen in Baden-Württemberg zur Verfügung gestell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artenauswahl und Zusammenstellung der Lösungshinweise: Gerald Manz, St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3" name="Picture 11" descr="http://www.fh-studiengang.de/fernstudium/Bilder/hska.gif"/>
            <p:cNvPicPr/>
            <p:nvPr/>
          </p:nvPicPr>
          <p:blipFill>
            <a:blip r:embed="rId2"/>
            <a:stretch/>
          </p:blipFill>
          <p:spPr>
            <a:xfrm>
              <a:off x="4905360" y="2192040"/>
              <a:ext cx="3671280" cy="123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71280" y="1122120"/>
            <a:ext cx="80629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W in Karlsruhe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uppieren 4"/>
          <p:cNvGrpSpPr/>
          <p:nvPr/>
        </p:nvGrpSpPr>
        <p:grpSpPr>
          <a:xfrm>
            <a:off x="49320" y="200160"/>
            <a:ext cx="7759800" cy="1815840"/>
            <a:chOff x="49320" y="200160"/>
            <a:chExt cx="7759800" cy="1815840"/>
          </a:xfrm>
        </p:grpSpPr>
        <p:sp>
          <p:nvSpPr>
            <p:cNvPr id="305" name="Textfeld 5"/>
            <p:cNvSpPr/>
            <p:nvPr/>
          </p:nvSpPr>
          <p:spPr>
            <a:xfrm>
              <a:off x="954720" y="832680"/>
              <a:ext cx="685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läutern Sie Ihre Verbesserungsvorschläge zur Kar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hteck 6"/>
            <p:cNvSpPr/>
            <p:nvPr/>
          </p:nvSpPr>
          <p:spPr>
            <a:xfrm>
              <a:off x="900000" y="200160"/>
              <a:ext cx="57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Übungen zu thematischen Kar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feld 7"/>
            <p:cNvSpPr/>
            <p:nvPr/>
          </p:nvSpPr>
          <p:spPr>
            <a:xfrm>
              <a:off x="49320" y="1556280"/>
              <a:ext cx="8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8" name="Picture 2" descr="S:\1_Gerald_Schule\0_FB\Geo_FB\ZPG\ZPG_4_Geo\1 Kartographie\Theorie Kartographie\_Material HS KA Kartographie\thematische Karten Übungen\Gruppe_a_Karlsruhe\Karten\KA_PKW_Einw.jpg"/>
          <p:cNvPicPr/>
          <p:nvPr/>
        </p:nvPicPr>
        <p:blipFill>
          <a:blip r:embed="rId1"/>
          <a:stretch/>
        </p:blipFill>
        <p:spPr>
          <a:xfrm>
            <a:off x="1041480" y="1679400"/>
            <a:ext cx="6554880" cy="4629240"/>
          </a:xfrm>
          <a:prstGeom prst="rect">
            <a:avLst/>
          </a:prstGeom>
          <a:ln w="0">
            <a:noFill/>
          </a:ln>
        </p:spPr>
      </p:pic>
      <p:sp>
        <p:nvSpPr>
          <p:cNvPr id="309" name="Rechteck 11"/>
          <p:cNvSpPr/>
          <p:nvPr/>
        </p:nvSpPr>
        <p:spPr>
          <a:xfrm>
            <a:off x="5803200" y="6032520"/>
            <a:ext cx="1703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A_Stadt_PKW_Einw.jp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0" y="1343160"/>
            <a:ext cx="899964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76320" y="105048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eitslosigkeit in Karlsruhe (2)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084320" y="1641600"/>
            <a:ext cx="6594480" cy="4643280"/>
          </a:xfrm>
          <a:prstGeom prst="rect">
            <a:avLst/>
          </a:prstGeom>
          <a:ln w="0">
            <a:noFill/>
          </a:ln>
        </p:spPr>
      </p:pic>
      <p:grpSp>
        <p:nvGrpSpPr>
          <p:cNvPr id="316" name="Gruppieren 8"/>
          <p:cNvGrpSpPr/>
          <p:nvPr/>
        </p:nvGrpSpPr>
        <p:grpSpPr>
          <a:xfrm>
            <a:off x="49320" y="200160"/>
            <a:ext cx="7759800" cy="1815840"/>
            <a:chOff x="49320" y="200160"/>
            <a:chExt cx="7759800" cy="1815840"/>
          </a:xfrm>
        </p:grpSpPr>
        <p:sp>
          <p:nvSpPr>
            <p:cNvPr id="317" name="Textfeld 5"/>
            <p:cNvSpPr/>
            <p:nvPr/>
          </p:nvSpPr>
          <p:spPr>
            <a:xfrm>
              <a:off x="954720" y="832680"/>
              <a:ext cx="685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Erläutern Sie Ihre Verbesserungsvorschläge zur Kar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hteck 6"/>
            <p:cNvSpPr/>
            <p:nvPr/>
          </p:nvSpPr>
          <p:spPr>
            <a:xfrm>
              <a:off x="900000" y="200160"/>
              <a:ext cx="57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Übungen zu thematischen Kar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feld 7"/>
            <p:cNvSpPr/>
            <p:nvPr/>
          </p:nvSpPr>
          <p:spPr>
            <a:xfrm>
              <a:off x="49320" y="1556280"/>
              <a:ext cx="89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Rechteck 3"/>
          <p:cNvSpPr/>
          <p:nvPr/>
        </p:nvSpPr>
        <p:spPr>
          <a:xfrm>
            <a:off x="4862160" y="602460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Times New Roman"/>
              </a:rPr>
              <a:t>KA_Arbeitslosenl.pd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0" y="1542960"/>
            <a:ext cx="89996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0:31:03Z</dcterms:created>
  <dc:creator>Thomas Schmitt</dc:creator>
  <dc:description/>
  <dc:language>en-US</dc:language>
  <cp:lastModifiedBy>Manz</cp:lastModifiedBy>
  <dcterms:modified xsi:type="dcterms:W3CDTF">2013-10-10T08:31:32Z</dcterms:modified>
  <cp:revision>558</cp:revision>
  <dc:subject/>
  <dc:title>PowerPoint-Präsentation</dc:title>
</cp:coreProperties>
</file>