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6B11-E343-40FC-8174-105F3EAE396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(Klassengrenzen werden bei „Natural Breaks“ korrekter Weise mit Hilfe statistischer Formel gesetzt; diese Methode ist ziemlich komplex, minimiert Summe der Varianzen innerhalb jeder Klasse. Werte mit großer Ähnlichkeit werden in eine Klasse gesetz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ECC4-4A56-428A-B484-C7856720BA6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1F483-4D27-45EC-BC2F-41245328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C520E4-1C55-4535-B5E8-AD811B6C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83C5E3-40DD-4FB4-9999-A27F78E7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9F8877-26F6-4633-8E70-BF64429B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7126B6-E014-4150-B1C1-9613A10D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6B87D7-FD20-4077-8E04-037FF8B7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E547C3-1890-4D72-9DC5-8707C37A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40483-ADE0-4019-8871-6514CE2F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DA7409-F410-44F4-9191-6433FF26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DC5173-50D6-4EA4-AA4C-CC6056A0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B20DA2-FE4C-4A73-BFDE-C6C941AD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4BBB24-62ED-4DC8-86FE-6399EA7E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955FF5-A224-4D21-BD47-06310859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8024CB-64BE-4860-80C0-461787E0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AE1CCB-3D66-4F4F-ADE4-6FE2D690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02697-2271-4262-AA6F-961CE9B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C721AB-B8F5-45D7-8766-45AC2C0D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DD526F-3818-4957-810C-B0AFD7CB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D95D53-2C1A-4E84-AAEE-274F99B4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E2B0B5-6173-4CF9-AD76-A027F38A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194DC9-B6C1-4D5C-9F0B-AB49A272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E07325-2AE7-4371-9804-A85DF90D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B9661A-9375-41F2-81F9-B62F5935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58A223-137B-4A25-8032-DCABD267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237659-3C5B-4FE5-B28A-112698D4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6EBA85-75C3-47B8-8591-1C9525C3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FC5963-3540-4B06-8323-1D9AA14D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219DB5-AA4F-44A5-8911-553E00EE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B45987-7F56-437D-B9F2-F398F6F4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93686A-77EC-4D3F-8771-7D7BCF91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5B4-2DB2-4AA8-BD3F-7C85C572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9C22C2-7DC1-44C9-9F45-72244AD0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DF89B4-698C-48EB-A296-923BCE0F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0F31E7-9DE4-4B83-A8B6-559D54F5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E19C8E-5617-4D15-99B2-3367A88A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300A7F-3FA1-4AAE-8E68-689A7DAD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4B52BB-9A8D-494F-905F-C1020D7E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E4C3E0-D3F2-4FA9-B38B-8D984855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4F9420-FB01-4FDB-8E25-376B2F9C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303B41-A588-4DAE-AFF5-910ABE34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FC499F-E445-4721-932F-500162AB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916-1776-4318-8DC2-47767497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45ADD3-A415-4FD4-A832-F8D93517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155A65-AF75-4E00-B2A1-1C609526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A0884F-74E5-4E87-9E44-806FDBD0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AD5308-9B34-4B34-99B7-FDCB065D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3F9455-0F19-4164-9158-FE4A18DAD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3709-8DF6-4BBE-AFBE-CE441846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641-8058-43DC-970A-6FF48A5C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B69-4CE9-4AF5-A6C9-D285AE2E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F34-90D3-40A9-9BEB-942790E8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7D9-2A8A-4488-B484-1A862419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589-6C4B-4EA9-87B0-B93FF8D9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960-EB32-464E-99B7-17FA1881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389-010F-425D-9368-05DF2EB5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4A1-4F03-4438-9CEB-E58D513B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A4A-B689-4A7E-8EDA-EAA8B475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D2A92-2306-4E44-B171-68E79ACE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6EBD1-16A5-4D80-B9CB-21935D56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83041-4A67-4D30-B4B7-D3062601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541FF-65B4-4308-94C7-34CFBCBA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79979-09A5-493F-B6F8-E7E4DB7A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6CFDB-3C59-4C60-9FC5-9ABD09EC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26575-50FE-44A7-BEA2-D7E765CA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738B6-D29D-4D27-A03F-E2B74881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74A49-C99B-40A1-A403-B86730FD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0CA67-9098-4B7D-9A2D-1285F4CF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38CC6-4895-494E-9CDE-73E52BBF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9026A-7002-4586-98DC-B59B47C2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BA9A5-EB3E-4914-BAE5-DD0E1CE2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83B64-CBA6-4D27-B2A0-8EF669BF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8AD15-E71B-455F-9C7D-08941F0E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D1AD9-1421-4604-8EF5-B2A2B86C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67415-CA59-42CF-8A02-3DED5434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859AB-1BFF-4C68-9A0B-A0092A6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8B54B-DF6A-4678-BE04-16A1DA54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C1F53-0545-4707-A078-155D3D6A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FE1FFC-2796-4196-B773-DF7E0E7C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6EF3A5-EA2C-43E3-81E7-F109069B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64EA7-09BF-4695-B8A8-E99EB0BB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E382A-9942-4AD9-8F9C-1993FCA9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1C227-2145-4D8A-AEC8-8F601A15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FE839-AD17-4B0C-B6FF-9168E576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41BBE-3FF1-4CC9-9BA0-D6310966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4EF3F-C228-4A02-8851-25B33CC0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BBB5B-2378-468D-89AD-38D4FBBC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44D341-46B6-4882-9012-A8280F9A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BC8F8-CB33-4958-8572-B859C286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F7DA8-C0C4-415F-B4EB-E0ED7025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81310-78B3-433C-BD5B-45AADF4B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BE4B3-1628-47ED-9F51-EC7619B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99E4D1-65BB-48F8-BE03-F06CA528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F907E-1A18-491E-9DEE-59C40421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7B809-D67F-4F6E-9342-FD1AE83B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28EB0-15BB-42AC-B18D-EC141DF0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9B0B87-A1CC-45F7-9830-8B8E527E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67557-23D0-470C-9319-6A0399B0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8C5C0-0C39-429C-96EB-AB1F02A4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C4EC7-876B-49BA-ACE7-3B69D311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4B5AD-E09C-4E79-858C-FB8D5566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BA60A-E571-4608-8487-4EFC4A85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E2FB6-A7F2-4236-A946-C5C4C97E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E9FB0-C054-4103-BA87-C97A4238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FC4DC-36B8-480D-B380-0D6F8D71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CF642-52ED-4D9B-BA77-E082AE6B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6E2AB-3DBE-427A-864A-E0EB3BC2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4A8E7C-73A2-4D26-8DB6-289280FE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ACDAEE-E4B0-4EF7-8266-817AC5A3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5DCC90-B691-4BE9-92D6-5681409F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3355BD-D460-4859-BB4C-F64CD60A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4F5DA-FD89-4ACA-903B-AA13ADBD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69E1F-0C96-4CF5-AABC-7B3B6358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7C5DD-3B2C-4A62-A4C7-6DA31404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579BA8-82F8-437B-8BE2-2FA35185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A5977-AF85-436F-8AE9-4EA0418C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5D4FA2-3C3F-4B09-9FAB-854B9662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AD83B-A812-47DA-B7EE-F3418200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373AB-AE85-4421-B8A7-EAF506DC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431D4E-C846-4BC1-984E-81607752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15042C-5497-474D-ACA9-08BC90A7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2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AFA06013-A801-4B77-A66C-21AC3B0624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387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3509F306-6FCE-4B00-9B54-BA50DC632C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3450-8256-4451-962F-9F28D277480A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430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A32C7BAD-2CB4-46C1-BE75-E128F30830C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DDDB-0221-4448-9FFC-BFDAB758B4A3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473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2A5ABEE0-84A0-4887-8CD5-BAFEABE137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7516-65D1-4484-BBF4-E9FD5A84F1C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42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953CCBA2-1227-4E67-969F-79CA63054E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E992-02BD-4FE0-BF50-1B79414ED381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85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C1790DF6-BAB9-4F8B-A261-08F4BAB706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129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7BEC4D8E-1DE6-490F-96DC-C10D8B212C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1F4F-B6C9-4031-BADE-ABD872172F46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172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B7174022-0838-47AB-B187-B01ED11F3B1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153C-0DE3-4DEF-8AEE-7BFF6C9051E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215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4EECB968-6AB8-4F8D-8A54-AC63DD0CF1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0321-E101-4275-A3F4-2152A51B1E59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258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E9269A6C-82E5-4D93-B866-0D2D5D98A0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A26A-613E-436C-A1BE-62DB8F77688B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301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F73AD3FA-227A-4FBD-A873-A2847175D3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EF15-A932-4D8A-B287-E395700E256C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hteck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eece1"/>
              </a:gs>
              <a:gs pos="100000">
                <a:srgbClr val="fac0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8" descr="R:\Gestaltungsrichtlinien\Logo RP mit Hintergrund.jpg"/>
          <p:cNvPicPr/>
          <p:nvPr/>
        </p:nvPicPr>
        <p:blipFill>
          <a:blip r:embed="rId2"/>
          <a:stretch/>
        </p:blipFill>
        <p:spPr>
          <a:xfrm>
            <a:off x="7502400" y="6111720"/>
            <a:ext cx="1173240" cy="603360"/>
          </a:xfrm>
          <a:prstGeom prst="rect">
            <a:avLst/>
          </a:prstGeom>
          <a:ln w="0">
            <a:noFill/>
          </a:ln>
        </p:spPr>
      </p:pic>
      <p:sp>
        <p:nvSpPr>
          <p:cNvPr id="344" name="Fußzeilenplatzhalter 3"/>
          <p:cNvSpPr/>
          <p:nvPr/>
        </p:nvSpPr>
        <p:spPr>
          <a:xfrm>
            <a:off x="490680" y="6485040"/>
            <a:ext cx="660060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ZPG Geographie – Materialien für den Unterricht - Methode Thematische Karte</a:t>
            </a:r>
            <a:br>
              <a:rPr sz="900"/>
            </a:br>
            <a:r>
              <a:rPr b="1" lang="de-DE" sz="900" spc="-1" strike="noStrike">
                <a:solidFill>
                  <a:srgbClr val="000000"/>
                </a:solidFill>
                <a:latin typeface="Times New Roman"/>
              </a:rPr>
              <a:t>Gerald Manz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oliennummernplatzhalter 5"/>
          <p:cNvSpPr/>
          <p:nvPr/>
        </p:nvSpPr>
        <p:spPr>
          <a:xfrm>
            <a:off x="4976640" y="6377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Folie Nr. </a:t>
            </a:r>
            <a:fld id="{390C46A4-DEF3-4B3D-811F-D27ABC80A7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von 17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AA5E-B4CD-443B-B9DC-673C171B455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Der Klassifikationmodus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bei der Erstellung 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thematischer Kart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Großrä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Grafik 1" descr=""/>
          <p:cNvPicPr/>
          <p:nvPr/>
        </p:nvPicPr>
        <p:blipFill>
          <a:blip r:embed="rId1"/>
          <a:stretch/>
        </p:blipFill>
        <p:spPr>
          <a:xfrm>
            <a:off x="558720" y="1944720"/>
            <a:ext cx="2791080" cy="2708280"/>
          </a:xfrm>
          <a:prstGeom prst="rect">
            <a:avLst/>
          </a:prstGeom>
          <a:ln w="19080">
            <a:solidFill>
              <a:srgbClr val="0070c0"/>
            </a:solidFill>
            <a:miter/>
          </a:ln>
        </p:spPr>
      </p:pic>
      <p:pic>
        <p:nvPicPr>
          <p:cNvPr id="549" name="Grafik 1" descr=""/>
          <p:cNvPicPr/>
          <p:nvPr/>
        </p:nvPicPr>
        <p:blipFill>
          <a:blip r:embed="rId2"/>
          <a:srcRect l="0" t="2704" r="0" b="0"/>
          <a:stretch/>
        </p:blipFill>
        <p:spPr>
          <a:xfrm>
            <a:off x="3419640" y="1925640"/>
            <a:ext cx="2315880" cy="1143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"/>
          <p:cNvPicPr/>
          <p:nvPr/>
        </p:nvPicPr>
        <p:blipFill>
          <a:blip r:embed="rId3"/>
          <a:stretch/>
        </p:blipFill>
        <p:spPr>
          <a:xfrm>
            <a:off x="3924360" y="3429000"/>
            <a:ext cx="4484520" cy="2800440"/>
          </a:xfrm>
          <a:prstGeom prst="rect">
            <a:avLst/>
          </a:prstGeom>
          <a:ln w="0">
            <a:noFill/>
          </a:ln>
        </p:spPr>
      </p:pic>
      <p:sp>
        <p:nvSpPr>
          <p:cNvPr id="551" name="Rechteck 5"/>
          <p:cNvSpPr/>
          <p:nvPr/>
        </p:nvSpPr>
        <p:spPr>
          <a:xfrm>
            <a:off x="6173640" y="1844640"/>
            <a:ext cx="250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lassifikation auf der Basis von Werten zur Bevölkerungszunahme in Europ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Großrä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3924360" y="3429000"/>
            <a:ext cx="4484520" cy="2800440"/>
          </a:xfrm>
          <a:prstGeom prst="rect">
            <a:avLst/>
          </a:prstGeom>
          <a:ln w="0">
            <a:noFill/>
          </a:ln>
        </p:spPr>
      </p:pic>
      <p:pic>
        <p:nvPicPr>
          <p:cNvPr id="554" name="Grafik 1" descr=""/>
          <p:cNvPicPr/>
          <p:nvPr/>
        </p:nvPicPr>
        <p:blipFill>
          <a:blip r:embed="rId2"/>
          <a:stretch/>
        </p:blipFill>
        <p:spPr>
          <a:xfrm>
            <a:off x="468360" y="1679400"/>
            <a:ext cx="3673440" cy="3149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5" name="Rechteck 4"/>
          <p:cNvSpPr/>
          <p:nvPr/>
        </p:nvSpPr>
        <p:spPr>
          <a:xfrm>
            <a:off x="4211640" y="16286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ine zunächst speziell für Europa gewählte Klassifikation kann für Afrika nicht eingesetzt werden, da einige Länder in Afrika die geringen statistischen Werte nicht aufweisen: weite Teile Afrikas werden nicht dargestell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Großrä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4067280" y="3645000"/>
            <a:ext cx="4701960" cy="2290680"/>
          </a:xfrm>
          <a:prstGeom prst="rect">
            <a:avLst/>
          </a:prstGeom>
          <a:ln w="0">
            <a:noFill/>
          </a:ln>
        </p:spPr>
      </p:pic>
      <p:pic>
        <p:nvPicPr>
          <p:cNvPr id="558" name="Grafik 1" descr=""/>
          <p:cNvPicPr/>
          <p:nvPr/>
        </p:nvPicPr>
        <p:blipFill>
          <a:blip r:embed="rId2"/>
          <a:stretch/>
        </p:blipFill>
        <p:spPr>
          <a:xfrm>
            <a:off x="468360" y="1884240"/>
            <a:ext cx="3673440" cy="298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59" name="Rechteck 8"/>
          <p:cNvSpPr/>
          <p:nvPr/>
        </p:nvSpPr>
        <p:spPr>
          <a:xfrm>
            <a:off x="4464000" y="18194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ine zunächst für Afrika speziell gewählte Klassifikation kann wiederum für Europa nicht eingesetzt werden, da die meisten Länder in Europa die sehr hohen statistischen Werte nicht aufweisen: weite Teile Europas werden nicht dargestell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Großrä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1"/>
          <p:cNvGrpSpPr/>
          <p:nvPr/>
        </p:nvGrpSpPr>
        <p:grpSpPr>
          <a:xfrm>
            <a:off x="2133720" y="2852640"/>
            <a:ext cx="6506640" cy="3200400"/>
            <a:chOff x="2133720" y="2852640"/>
            <a:chExt cx="6506640" cy="3200400"/>
          </a:xfrm>
        </p:grpSpPr>
        <p:pic>
          <p:nvPicPr>
            <p:cNvPr id="563" name="Grafik 1" descr=""/>
            <p:cNvPicPr/>
            <p:nvPr/>
          </p:nvPicPr>
          <p:blipFill>
            <a:blip r:embed="rId1"/>
            <a:stretch/>
          </p:blipFill>
          <p:spPr>
            <a:xfrm>
              <a:off x="2223000" y="2852640"/>
              <a:ext cx="6417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Freeform 8"/>
            <p:cNvSpPr/>
            <p:nvPr/>
          </p:nvSpPr>
          <p:spPr>
            <a:xfrm>
              <a:off x="2169000" y="3989880"/>
              <a:ext cx="5901840" cy="1917720"/>
            </a:xfrm>
            <a:custGeom>
              <a:avLst/>
              <a:gdLst/>
              <a:ahLst/>
              <a:rect l="l" t="t" r="r" b="b"/>
              <a:pathLst>
                <a:path w="8762" h="2926">
                  <a:moveTo>
                    <a:pt x="0" y="9"/>
                  </a:moveTo>
                  <a:lnTo>
                    <a:pt x="8762" y="0"/>
                  </a:lnTo>
                  <a:lnTo>
                    <a:pt x="8762" y="292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7"/>
            <p:cNvSpPr/>
            <p:nvPr/>
          </p:nvSpPr>
          <p:spPr>
            <a:xfrm>
              <a:off x="2133720" y="4762440"/>
              <a:ext cx="3894840" cy="1193040"/>
            </a:xfrm>
            <a:custGeom>
              <a:avLst/>
              <a:gdLst/>
              <a:ahLst/>
              <a:rect l="l" t="t" r="r" b="b"/>
              <a:pathLst>
                <a:path w="8762" h="2926">
                  <a:moveTo>
                    <a:pt x="0" y="9"/>
                  </a:moveTo>
                  <a:lnTo>
                    <a:pt x="8762" y="0"/>
                  </a:lnTo>
                  <a:lnTo>
                    <a:pt x="8762" y="292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6"/>
            <p:cNvSpPr/>
            <p:nvPr/>
          </p:nvSpPr>
          <p:spPr>
            <a:xfrm>
              <a:off x="2133720" y="5456880"/>
              <a:ext cx="2464200" cy="510480"/>
            </a:xfrm>
            <a:custGeom>
              <a:avLst/>
              <a:gdLst/>
              <a:ahLst/>
              <a:rect l="l" t="t" r="r" b="b"/>
              <a:pathLst>
                <a:path w="8762" h="2926">
                  <a:moveTo>
                    <a:pt x="0" y="9"/>
                  </a:moveTo>
                  <a:lnTo>
                    <a:pt x="8762" y="0"/>
                  </a:lnTo>
                  <a:lnTo>
                    <a:pt x="8762" y="292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5"/>
            <p:cNvSpPr/>
            <p:nvPr/>
          </p:nvSpPr>
          <p:spPr>
            <a:xfrm>
              <a:off x="2133720" y="5570280"/>
              <a:ext cx="1805040" cy="427320"/>
            </a:xfrm>
            <a:custGeom>
              <a:avLst/>
              <a:gdLst/>
              <a:ahLst/>
              <a:rect l="l" t="t" r="r" b="b"/>
              <a:pathLst>
                <a:path w="8762" h="2926">
                  <a:moveTo>
                    <a:pt x="0" y="9"/>
                  </a:moveTo>
                  <a:lnTo>
                    <a:pt x="8762" y="0"/>
                  </a:lnTo>
                  <a:lnTo>
                    <a:pt x="8762" y="292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4"/>
            <p:cNvSpPr/>
            <p:nvPr/>
          </p:nvSpPr>
          <p:spPr>
            <a:xfrm>
              <a:off x="2133720" y="5746320"/>
              <a:ext cx="582120" cy="220680"/>
            </a:xfrm>
            <a:custGeom>
              <a:avLst/>
              <a:gdLst/>
              <a:ahLst/>
              <a:rect l="l" t="t" r="r" b="b"/>
              <a:pathLst>
                <a:path w="8762" h="2926">
                  <a:moveTo>
                    <a:pt x="0" y="9"/>
                  </a:moveTo>
                  <a:lnTo>
                    <a:pt x="8762" y="0"/>
                  </a:lnTo>
                  <a:lnTo>
                    <a:pt x="8762" y="292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"/>
            <p:cNvSpPr/>
            <p:nvPr/>
          </p:nvSpPr>
          <p:spPr>
            <a:xfrm>
              <a:off x="2133720" y="5118480"/>
              <a:ext cx="3294720" cy="794880"/>
            </a:xfrm>
            <a:custGeom>
              <a:avLst/>
              <a:gdLst/>
              <a:ahLst/>
              <a:rect l="l" t="t" r="r" b="b"/>
              <a:pathLst>
                <a:path w="8762" h="2926">
                  <a:moveTo>
                    <a:pt x="0" y="9"/>
                  </a:moveTo>
                  <a:lnTo>
                    <a:pt x="8762" y="0"/>
                  </a:lnTo>
                  <a:lnTo>
                    <a:pt x="8762" y="292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2"/>
            <p:cNvSpPr/>
            <p:nvPr/>
          </p:nvSpPr>
          <p:spPr>
            <a:xfrm>
              <a:off x="2169000" y="3200400"/>
              <a:ext cx="6388200" cy="2707200"/>
            </a:xfrm>
            <a:custGeom>
              <a:avLst/>
              <a:gdLst/>
              <a:ahLst/>
              <a:rect l="l" t="t" r="r" b="b"/>
              <a:pathLst>
                <a:path w="8762" h="2926">
                  <a:moveTo>
                    <a:pt x="0" y="9"/>
                  </a:moveTo>
                  <a:lnTo>
                    <a:pt x="8762" y="0"/>
                  </a:lnTo>
                  <a:lnTo>
                    <a:pt x="8762" y="292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1" name="Grafik 1" descr=""/>
          <p:cNvPicPr/>
          <p:nvPr/>
        </p:nvPicPr>
        <p:blipFill>
          <a:blip r:embed="rId2"/>
          <a:srcRect l="17033" t="3646" r="10668" b="4779"/>
          <a:stretch/>
        </p:blipFill>
        <p:spPr>
          <a:xfrm>
            <a:off x="438120" y="1676520"/>
            <a:ext cx="2598840" cy="389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2" name="Rechteck 12"/>
          <p:cNvSpPr/>
          <p:nvPr/>
        </p:nvSpPr>
        <p:spPr>
          <a:xfrm>
            <a:off x="5608800" y="1628640"/>
            <a:ext cx="33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Neue gemeinsame Klassifikation für beide Kontinen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Grafik 1" descr=""/>
          <p:cNvPicPr/>
          <p:nvPr/>
        </p:nvPicPr>
        <p:blipFill>
          <a:blip r:embed="rId3"/>
          <a:stretch/>
        </p:blipFill>
        <p:spPr>
          <a:xfrm>
            <a:off x="3106800" y="1676520"/>
            <a:ext cx="2012760" cy="11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rbwah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826920" y="1450800"/>
            <a:ext cx="4249800" cy="493092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4"/>
          <p:cNvSpPr/>
          <p:nvPr/>
        </p:nvSpPr>
        <p:spPr>
          <a:xfrm>
            <a:off x="2340000" y="3956040"/>
            <a:ext cx="2716200" cy="169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hteck 6"/>
          <p:cNvSpPr/>
          <p:nvPr/>
        </p:nvSpPr>
        <p:spPr>
          <a:xfrm>
            <a:off x="2340000" y="2276640"/>
            <a:ext cx="2716200" cy="1695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hteck 7"/>
          <p:cNvSpPr/>
          <p:nvPr/>
        </p:nvSpPr>
        <p:spPr>
          <a:xfrm>
            <a:off x="2340000" y="5661000"/>
            <a:ext cx="2716200" cy="169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rbwah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826920" y="1450800"/>
            <a:ext cx="4249800" cy="4930920"/>
          </a:xfrm>
          <a:prstGeom prst="rect">
            <a:avLst/>
          </a:prstGeom>
          <a:ln w="0">
            <a:noFill/>
          </a:ln>
        </p:spPr>
      </p:pic>
      <p:sp>
        <p:nvSpPr>
          <p:cNvPr id="581" name="Textfeld 3"/>
          <p:cNvSpPr/>
          <p:nvPr/>
        </p:nvSpPr>
        <p:spPr>
          <a:xfrm>
            <a:off x="5300640" y="1393920"/>
            <a:ext cx="36082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ma ?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völkerungswachs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nergieverbrau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üngemitteleinsat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IV-Qu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NP/Kop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biltelefond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ahl der Tiere pro Hi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Ärzted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hteck 4"/>
          <p:cNvSpPr/>
          <p:nvPr/>
        </p:nvSpPr>
        <p:spPr>
          <a:xfrm>
            <a:off x="2340000" y="3956040"/>
            <a:ext cx="2716200" cy="169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hteck 6"/>
          <p:cNvSpPr/>
          <p:nvPr/>
        </p:nvSpPr>
        <p:spPr>
          <a:xfrm>
            <a:off x="2340000" y="2276640"/>
            <a:ext cx="2716200" cy="1695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hteck 7"/>
          <p:cNvSpPr/>
          <p:nvPr/>
        </p:nvSpPr>
        <p:spPr>
          <a:xfrm>
            <a:off x="2340000" y="5661000"/>
            <a:ext cx="2716200" cy="169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hteck 5"/>
          <p:cNvSpPr/>
          <p:nvPr/>
        </p:nvSpPr>
        <p:spPr>
          <a:xfrm>
            <a:off x="826920" y="1450800"/>
            <a:ext cx="4229280" cy="493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Farbwah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826920" y="1450800"/>
            <a:ext cx="4249800" cy="4930920"/>
          </a:xfrm>
          <a:prstGeom prst="rect">
            <a:avLst/>
          </a:prstGeom>
          <a:ln w="0">
            <a:noFill/>
          </a:ln>
        </p:spPr>
      </p:pic>
      <p:sp>
        <p:nvSpPr>
          <p:cNvPr id="588" name="Textfeld 3"/>
          <p:cNvSpPr/>
          <p:nvPr/>
        </p:nvSpPr>
        <p:spPr>
          <a:xfrm>
            <a:off x="5300640" y="1393920"/>
            <a:ext cx="36082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hema ?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evölkerungswachs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nergieverbrau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üngemitteleinsat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HIV-Quo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BNP/Kop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biltelefond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ahl der Tiere pro Hi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Ärztedich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hteck 4"/>
          <p:cNvSpPr/>
          <p:nvPr/>
        </p:nvSpPr>
        <p:spPr>
          <a:xfrm>
            <a:off x="2340000" y="3956040"/>
            <a:ext cx="2716200" cy="169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hteck 6"/>
          <p:cNvSpPr/>
          <p:nvPr/>
        </p:nvSpPr>
        <p:spPr>
          <a:xfrm>
            <a:off x="2340000" y="2276640"/>
            <a:ext cx="2716200" cy="16956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hteck 7"/>
          <p:cNvSpPr/>
          <p:nvPr/>
        </p:nvSpPr>
        <p:spPr>
          <a:xfrm>
            <a:off x="2340000" y="5661000"/>
            <a:ext cx="2716200" cy="169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hteck 2"/>
          <p:cNvSpPr/>
          <p:nvPr/>
        </p:nvSpPr>
        <p:spPr>
          <a:xfrm>
            <a:off x="5275800" y="2492280"/>
            <a:ext cx="36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0000"/>
                </a:solidFill>
                <a:uFillTx/>
                <a:latin typeface="Calibri"/>
              </a:rPr>
              <a:t>Bevölkerungswachs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hteck 3"/>
          <p:cNvSpPr/>
          <p:nvPr/>
        </p:nvSpPr>
        <p:spPr>
          <a:xfrm>
            <a:off x="395280" y="450864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tengrundlage: Deutsche Stiftung Weltbevölker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artengenerierung:  Programm Quantum-GI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istogramm-Erzeugung mit MS-EXC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rafiken erstellt mit MS W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rald Man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Quantil   Histogram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11" descr=""/>
          <p:cNvPicPr/>
          <p:nvPr/>
        </p:nvPicPr>
        <p:blipFill>
          <a:blip r:embed="rId1"/>
          <a:stretch/>
        </p:blipFill>
        <p:spPr>
          <a:xfrm>
            <a:off x="1200240" y="1776240"/>
            <a:ext cx="6743520" cy="3305520"/>
          </a:xfrm>
          <a:prstGeom prst="rect">
            <a:avLst/>
          </a:prstGeom>
          <a:ln w="0">
            <a:noFill/>
          </a:ln>
        </p:spPr>
      </p:pic>
      <p:sp>
        <p:nvSpPr>
          <p:cNvPr id="524" name="Rechteck 5"/>
          <p:cNvSpPr/>
          <p:nvPr/>
        </p:nvSpPr>
        <p:spPr>
          <a:xfrm>
            <a:off x="1200240" y="5229360"/>
            <a:ext cx="6743520" cy="368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alibri"/>
              </a:rPr>
              <a:t>Quantile eignen sich besonders für Daten, die linear verteilt si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Quantil    K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5657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Gleiches Intervall   Histogram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1185840" y="1781280"/>
            <a:ext cx="6772320" cy="3295440"/>
          </a:xfrm>
          <a:prstGeom prst="rect">
            <a:avLst/>
          </a:prstGeom>
          <a:ln w="0">
            <a:noFill/>
          </a:ln>
        </p:spPr>
      </p:pic>
      <p:sp>
        <p:nvSpPr>
          <p:cNvPr id="529" name="Rechteck 4"/>
          <p:cNvSpPr/>
          <p:nvPr/>
        </p:nvSpPr>
        <p:spPr>
          <a:xfrm>
            <a:off x="1187280" y="5241960"/>
            <a:ext cx="6699600" cy="9169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alibri"/>
              </a:rPr>
              <a:t>Der Unterschied zwischen dem höchsten und dem niedrigsten Wert ist in jeder Klasse gleich, d.h.: gleiche Intervalle ohne Rücksicht auf Wertverteilu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Gleiches Intervall   K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1"/>
          <a:stretch/>
        </p:blipFill>
        <p:spPr>
          <a:xfrm>
            <a:off x="757080" y="1844640"/>
            <a:ext cx="531504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erglei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rcRect l="0" t="0" r="0" b="2386"/>
          <a:stretch/>
        </p:blipFill>
        <p:spPr>
          <a:xfrm>
            <a:off x="757080" y="1844640"/>
            <a:ext cx="5315040" cy="4286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"/>
          <p:cNvPicPr/>
          <p:nvPr/>
        </p:nvPicPr>
        <p:blipFill>
          <a:blip r:embed="rId2"/>
          <a:srcRect l="0" t="0" r="45991" b="0"/>
          <a:stretch/>
        </p:blipFill>
        <p:spPr>
          <a:xfrm>
            <a:off x="3780000" y="1844640"/>
            <a:ext cx="3055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anuelle Intervalle Histogram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190520" y="1781280"/>
            <a:ext cx="6762960" cy="3295440"/>
          </a:xfrm>
          <a:prstGeom prst="rect">
            <a:avLst/>
          </a:prstGeom>
          <a:ln w="0">
            <a:noFill/>
          </a:ln>
        </p:spPr>
      </p:pic>
      <p:sp>
        <p:nvSpPr>
          <p:cNvPr id="537" name="Rechteck 4"/>
          <p:cNvSpPr/>
          <p:nvPr/>
        </p:nvSpPr>
        <p:spPr>
          <a:xfrm>
            <a:off x="1225440" y="5157720"/>
            <a:ext cx="6693120" cy="11912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alibri"/>
              </a:rPr>
              <a:t>Entspricht der Klassifikation „Natural Breaks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Klassen basieren auf natürlichen Gruppierungen der Datenwe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Calibri"/>
              </a:rPr>
              <a:t>Klassengrenzen am Sprung in den Werten (größerer Abstand zwischen den Säulen im Häufigkeitsdiagram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anuelle Intervalle Kar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5172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Vergleich von Klassifikationsmo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2" descr=""/>
          <p:cNvPicPr/>
          <p:nvPr/>
        </p:nvPicPr>
        <p:blipFill>
          <a:blip r:embed="rId1"/>
          <a:srcRect l="0" t="0" r="44693" b="0"/>
          <a:stretch/>
        </p:blipFill>
        <p:spPr>
          <a:xfrm>
            <a:off x="468360" y="2708280"/>
            <a:ext cx="2341440" cy="37450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"/>
          <p:cNvPicPr/>
          <p:nvPr/>
        </p:nvPicPr>
        <p:blipFill>
          <a:blip r:embed="rId2"/>
          <a:srcRect l="0" t="0" r="45116" b="0"/>
          <a:stretch/>
        </p:blipFill>
        <p:spPr>
          <a:xfrm>
            <a:off x="3319560" y="2714760"/>
            <a:ext cx="2404800" cy="3619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"/>
          <p:cNvPicPr/>
          <p:nvPr/>
        </p:nvPicPr>
        <p:blipFill>
          <a:blip r:embed="rId3"/>
          <a:srcRect l="0" t="0" r="45991" b="0"/>
          <a:stretch/>
        </p:blipFill>
        <p:spPr>
          <a:xfrm>
            <a:off x="6227640" y="2708280"/>
            <a:ext cx="2521080" cy="3535200"/>
          </a:xfrm>
          <a:prstGeom prst="rect">
            <a:avLst/>
          </a:prstGeom>
          <a:ln w="0">
            <a:noFill/>
          </a:ln>
        </p:spPr>
      </p:pic>
      <p:sp>
        <p:nvSpPr>
          <p:cNvPr id="544" name="Textfeld 6"/>
          <p:cNvSpPr/>
          <p:nvPr/>
        </p:nvSpPr>
        <p:spPr>
          <a:xfrm>
            <a:off x="966600" y="2133720"/>
            <a:ext cx="13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nu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feld 7"/>
          <p:cNvSpPr/>
          <p:nvPr/>
        </p:nvSpPr>
        <p:spPr>
          <a:xfrm>
            <a:off x="3213720" y="213372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leiches Interv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feld 8"/>
          <p:cNvSpPr/>
          <p:nvPr/>
        </p:nvSpPr>
        <p:spPr>
          <a:xfrm>
            <a:off x="6814800" y="20606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qu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3:16:17Z</dcterms:created>
  <dc:creator>Gerald</dc:creator>
  <dc:description/>
  <dc:language>en-US</dc:language>
  <cp:lastModifiedBy>Gerald</cp:lastModifiedBy>
  <dcterms:modified xsi:type="dcterms:W3CDTF">2013-09-10T14:43:19Z</dcterms:modified>
  <cp:revision>10</cp:revision>
  <dc:subject/>
  <dc:title>PowerPoint-Präsentation</dc:title>
</cp:coreProperties>
</file>