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32E-3B34-4E0D-9816-9A2B4638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854-32BA-4730-BE15-C2549ECC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515-0515-4361-9360-99956FBA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749-394B-4440-BEC7-76721B73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8B4-617A-41C6-8F84-F545EA88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6E8-D61F-4FC9-B707-7471C0E8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6E1-4147-411B-87D4-0469A4C6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FF0-C840-41CD-BAD8-E54F39FC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88C-A8F8-461E-AFF9-D97FC54C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7C5-E306-4B4F-9612-D2184F26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3EC-782C-4576-B47D-3DB25509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F7F-AA54-4C36-8E08-52A61C51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89B5-63A2-46DF-9885-AA0B62B584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4994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50Z</dcterms:modified>
  <cp:revision>74</cp:revision>
  <dc:subject/>
  <dc:title>Boden aktuell</dc:title>
</cp:coreProperties>
</file>