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6CE0-E705-4CE1-8925-D4A893DF6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4B01-D87B-4D5A-BE0C-35DC07656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EB8D-06B0-445F-BB44-381975B47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A773-8B9B-4B04-A294-82C410D23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924C-E1B9-4C54-A130-17537BC4C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27A5-3946-4CCD-96F2-8359547BB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9D98-ADD4-4241-B796-499100324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7F1F-26C4-4920-A26B-57CC9096E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0F34-098B-4138-AD46-5300BC1E7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83BC-5E62-4D81-81DC-2FC9863B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077F-BD47-443B-B052-24E8DE61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E5BC-EECA-4FBB-97C4-195FF82B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51DD4-5BCB-4350-A3A1-A2D563B3881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Bodendegrad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6950160" cy="4584960"/>
          </a:xfrm>
          <a:prstGeom prst="rect">
            <a:avLst/>
          </a:prstGeom>
          <a:ln w="0">
            <a:noFill/>
          </a:ln>
        </p:spPr>
      </p:pic>
      <p:sp>
        <p:nvSpPr>
          <p:cNvPr id="78" name="Rechteck 5"/>
          <p:cNvSpPr/>
          <p:nvPr/>
        </p:nvSpPr>
        <p:spPr>
          <a:xfrm>
            <a:off x="1042920" y="587700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alibri"/>
              </a:rPr>
              <a:t>Eine wachsende Bevölkerung kann sich den Verlus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de-DE" sz="2400" spc="-1" strike="noStrike">
                <a:solidFill>
                  <a:srgbClr val="ff0000"/>
                </a:solidFill>
                <a:latin typeface="Calibri"/>
              </a:rPr>
              <a:t>fruchtbaren Bodens nicht leist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Interaktionen zwischen globalen Umweltveränderung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feld 3"/>
          <p:cNvSpPr/>
          <p:nvPr/>
        </p:nvSpPr>
        <p:spPr>
          <a:xfrm>
            <a:off x="7236000" y="6453360"/>
            <a:ext cx="1657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</a:rPr>
              <a:t>(Quelle: WBGU, 201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770400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Interaktionen zwischen globalen Umweltveränderung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feld 3"/>
          <p:cNvSpPr/>
          <p:nvPr/>
        </p:nvSpPr>
        <p:spPr>
          <a:xfrm>
            <a:off x="7236000" y="6453360"/>
            <a:ext cx="1657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</a:rPr>
              <a:t>(Quelle: WBGU, 201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7704000" cy="4916520"/>
          </a:xfrm>
          <a:prstGeom prst="rect">
            <a:avLst/>
          </a:prstGeom>
          <a:ln w="0">
            <a:noFill/>
          </a:ln>
        </p:spPr>
      </p:pic>
      <p:sp>
        <p:nvSpPr>
          <p:cNvPr id="85" name="Gerade Verbindung 6"/>
          <p:cNvSpPr/>
          <p:nvPr/>
        </p:nvSpPr>
        <p:spPr>
          <a:xfrm>
            <a:off x="5940360" y="2492280"/>
            <a:ext cx="0" cy="3313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Gerade Verbindung 8"/>
          <p:cNvSpPr/>
          <p:nvPr/>
        </p:nvSpPr>
        <p:spPr>
          <a:xfrm>
            <a:off x="7164360" y="2492280"/>
            <a:ext cx="0" cy="2521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Gerade Verbindung 10"/>
          <p:cNvSpPr/>
          <p:nvPr/>
        </p:nvSpPr>
        <p:spPr>
          <a:xfrm>
            <a:off x="5940360" y="2492280"/>
            <a:ext cx="122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Gerade Verbindung 12"/>
          <p:cNvSpPr/>
          <p:nvPr/>
        </p:nvSpPr>
        <p:spPr>
          <a:xfrm>
            <a:off x="5940360" y="3357720"/>
            <a:ext cx="2448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Gerade Verbindung 14"/>
          <p:cNvSpPr/>
          <p:nvPr/>
        </p:nvSpPr>
        <p:spPr>
          <a:xfrm>
            <a:off x="5940360" y="4221000"/>
            <a:ext cx="2448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Gerade Verbindung 16"/>
          <p:cNvSpPr/>
          <p:nvPr/>
        </p:nvSpPr>
        <p:spPr>
          <a:xfrm>
            <a:off x="5940360" y="5084640"/>
            <a:ext cx="2448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Gerade Verbindung 19"/>
          <p:cNvSpPr/>
          <p:nvPr/>
        </p:nvSpPr>
        <p:spPr>
          <a:xfrm>
            <a:off x="3419640" y="5805360"/>
            <a:ext cx="49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Gerade Verbindung 21"/>
          <p:cNvSpPr/>
          <p:nvPr/>
        </p:nvSpPr>
        <p:spPr>
          <a:xfrm>
            <a:off x="5940360" y="5805360"/>
            <a:ext cx="0" cy="57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Gerade Verbindung 23"/>
          <p:cNvSpPr/>
          <p:nvPr/>
        </p:nvSpPr>
        <p:spPr>
          <a:xfrm>
            <a:off x="3419640" y="6381720"/>
            <a:ext cx="3744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Gerade Verbindung 25"/>
          <p:cNvSpPr/>
          <p:nvPr/>
        </p:nvSpPr>
        <p:spPr>
          <a:xfrm>
            <a:off x="7164360" y="5013360"/>
            <a:ext cx="0" cy="1368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Gerade Verbindung 34"/>
          <p:cNvSpPr/>
          <p:nvPr/>
        </p:nvSpPr>
        <p:spPr>
          <a:xfrm>
            <a:off x="8388360" y="3357720"/>
            <a:ext cx="0" cy="86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Gerade Verbindung 36"/>
          <p:cNvSpPr/>
          <p:nvPr/>
        </p:nvSpPr>
        <p:spPr>
          <a:xfrm>
            <a:off x="8388360" y="5084640"/>
            <a:ext cx="0" cy="72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Gerade Verbindung 41"/>
          <p:cNvSpPr/>
          <p:nvPr/>
        </p:nvSpPr>
        <p:spPr>
          <a:xfrm>
            <a:off x="4788000" y="4221000"/>
            <a:ext cx="0" cy="216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Gerade Verbindung 43"/>
          <p:cNvSpPr/>
          <p:nvPr/>
        </p:nvSpPr>
        <p:spPr>
          <a:xfrm>
            <a:off x="3419640" y="4221000"/>
            <a:ext cx="0" cy="216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Gerade Verbindung 45"/>
          <p:cNvSpPr/>
          <p:nvPr/>
        </p:nvSpPr>
        <p:spPr>
          <a:xfrm>
            <a:off x="3419640" y="4221000"/>
            <a:ext cx="1368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Gerade Verbindung 47"/>
          <p:cNvSpPr/>
          <p:nvPr/>
        </p:nvSpPr>
        <p:spPr>
          <a:xfrm flipH="1">
            <a:off x="3419640" y="5084640"/>
            <a:ext cx="252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Boden – nachhaltige Entwicklu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112000" cy="5112000"/>
          </a:xfrm>
          <a:prstGeom prst="rect">
            <a:avLst/>
          </a:prstGeom>
          <a:ln w="0">
            <a:noFill/>
          </a:ln>
        </p:spPr>
      </p:pic>
      <p:sp>
        <p:nvSpPr>
          <p:cNvPr id="103" name="Textfeld 4"/>
          <p:cNvSpPr/>
          <p:nvPr/>
        </p:nvSpPr>
        <p:spPr>
          <a:xfrm>
            <a:off x="1908000" y="6308640"/>
            <a:ext cx="468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de-DE" sz="1100" spc="-1" strike="noStrike">
                <a:solidFill>
                  <a:srgbClr val="000000"/>
                </a:solidFill>
                <a:latin typeface="Calibri"/>
              </a:rPr>
              <a:t>(Quelle: Ute Stoltenberg, in Stoltenberg/ Thielebein-Pohl: KITA21 201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Wir haben Boden gut zu machen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odenschutz in Deutschland und Europ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Landwirtschaftspolitik in Europ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Internationaler Bodenschut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Faz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836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 ‚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odenlo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Wir dürfen keinen Boden unter den Füßen verlieren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Calibri"/>
              </a:rPr>
              <a:t>wir müssen Boden gut machen!‘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7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2916360" y="2276640"/>
            <a:ext cx="3233520" cy="2425680"/>
          </a:xfrm>
          <a:prstGeom prst="rect">
            <a:avLst/>
          </a:prstGeom>
          <a:ln w="0">
            <a:noFill/>
          </a:ln>
        </p:spPr>
      </p:pic>
      <p:sp>
        <p:nvSpPr>
          <p:cNvPr id="109" name="Gerade Verbindung 7"/>
          <p:cNvSpPr/>
          <p:nvPr/>
        </p:nvSpPr>
        <p:spPr>
          <a:xfrm flipV="1">
            <a:off x="2916360" y="2276280"/>
            <a:ext cx="3240000" cy="2376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Gerade Verbindung 9"/>
          <p:cNvSpPr/>
          <p:nvPr/>
        </p:nvSpPr>
        <p:spPr>
          <a:xfrm>
            <a:off x="2916360" y="2276640"/>
            <a:ext cx="3240000" cy="2376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Aufgab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 ‚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odenlos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Wir dürfen keinen Boden unter den Füß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verlieren, wir müssen Boden gut machen!‘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Überprüfen Sie diese These u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bewerten Sie die Erfolgsaussicht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0000"/>
                </a:solidFill>
                <a:latin typeface="Calibri"/>
              </a:rPr>
              <a:t>Vorgehensweise: </a:t>
            </a:r>
            <a:br>
              <a:rPr sz="4000"/>
            </a:br>
            <a:r>
              <a:rPr b="1" lang="de-DE" sz="4000" spc="-1" strike="noStrike">
                <a:solidFill>
                  <a:srgbClr val="ff0000"/>
                </a:solidFill>
                <a:latin typeface="Calibri"/>
              </a:rPr>
              <a:t>Gruppenpuzzle mit Rollenspiel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alibri"/>
              </a:rPr>
              <a:t>Stammgruppe (‚Bundestag‘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Bestimmen Sie die zu untersuchenden Syndrom-Beispiel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alibri"/>
              </a:rPr>
              <a:t>Expertengruppen (,Forscherteam‘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Analysieren Sie das ausgewählte Syndrom-Beispiel (z.B. AB 1-16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Erstellen Sie in Anlehnung an das ‚Globale Beziehungsgeflecht‘ (M2/AB-0) ein Wirkungsgefüge zum ausgewählten Syndrom-Beispiel (z.B. als Wandplakat/ Folie/ DIN A4-Skizze für Visualizer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Arbeiten Sie mithilfe von geeigneten Karten (z.B. Terra 2010, S. 206/12, Atlas) weitere Regionen heraus, in denen das ausgewählte Syndrom möglicherweise auftrit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Beschreiben und begründen Sie mögliche Prognosen für einen möglichen weiteren Syndrom-Verlauf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Erstellen Sie eigene Handlungskonzepte mit dem Ziel eine weitere nicht nachhaltige Syndrom-Entwicklung zu vermeide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0000"/>
                </a:solidFill>
                <a:latin typeface="Calibri"/>
              </a:rPr>
              <a:t>Vorgehensweise: </a:t>
            </a:r>
            <a:br>
              <a:rPr sz="4000"/>
            </a:br>
            <a:r>
              <a:rPr b="1" lang="de-DE" sz="4000" spc="-1" strike="noStrike">
                <a:solidFill>
                  <a:srgbClr val="ff0000"/>
                </a:solidFill>
                <a:latin typeface="Calibri"/>
              </a:rPr>
              <a:t>Gruppenpuzzle mit Rollenspiel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alibri"/>
              </a:rPr>
              <a:t>Stammgruppe (‚Bundestag‘, evtl. Lehrkraft als Bundeskanzler/-i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alibri"/>
              </a:rPr>
              <a:t>zum Hinterfragen, Steuern des Ablauf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Präsentieren Sie die Ergebnisse der Expertenteams (pro Expertenteam ca. 5-7 Min.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Erörtern Sie die Realisierbarkeit, Chancen bzw. Probleme  der vorgeschlagenen Lösungsansätze. (pro Expertenteam ca. 5-7 Min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Benennen Sie in einem kurzen Diskurs die für Ihr Lebensumfeld wichtigsten Handlungskonzepte und ordnen Sie diese gemäß ihrer Dringlichkeit (kurz-, mittel-, langfristig, ca. 5-7 Min.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Formulieren Sie eine Handlungsempfehlung an die Bundesregierung. (evtl. Lehrkraft als Bundeskanzler/-in  Hausaufgab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(5.evtl. mit Protokollant/-in (‚Presse‘) und Kamera- Dokumentatio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Calibri"/>
              </a:rPr>
              <a:t>Boden aktuell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Weltbevölkeru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2073240" y="1600200"/>
            <a:ext cx="4997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Weltbevölkeru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feld 4"/>
          <p:cNvSpPr/>
          <p:nvPr/>
        </p:nvSpPr>
        <p:spPr>
          <a:xfrm>
            <a:off x="3635280" y="6093000"/>
            <a:ext cx="482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100" spc="-1" strike="noStrike">
                <a:solidFill>
                  <a:srgbClr val="000000"/>
                </a:solidFill>
                <a:latin typeface="Calibri"/>
              </a:rPr>
              <a:t>(Quelle: Population Reference Bureau, 2011 in Stiftung Weltbevölkerung, 201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3097080" cy="2805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3059280" y="2565360"/>
            <a:ext cx="567036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8391600" cy="4803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land footpri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feld 6"/>
          <p:cNvSpPr/>
          <p:nvPr/>
        </p:nvSpPr>
        <p:spPr>
          <a:xfrm>
            <a:off x="611280" y="6237360"/>
            <a:ext cx="7632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feld 8"/>
          <p:cNvSpPr/>
          <p:nvPr/>
        </p:nvSpPr>
        <p:spPr>
          <a:xfrm>
            <a:off x="395280" y="609300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Calibri"/>
              </a:rPr>
              <a:t>Sustainable Europe Research Institute (SERI),2011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feld 5"/>
          <p:cNvSpPr/>
          <p:nvPr/>
        </p:nvSpPr>
        <p:spPr>
          <a:xfrm>
            <a:off x="3059280" y="4797360"/>
            <a:ext cx="5833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Calibri"/>
              </a:rPr>
              <a:t>Effektive Land-Nachfrage in 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Calibri"/>
              </a:rPr>
              <a:t>Deutschland ( 82 Mio. E. )</a:t>
            </a:r>
            <a:r>
              <a:rPr b="1" lang="de-DE" sz="2000" spc="-1" strike="noStrike">
                <a:solidFill>
                  <a:srgbClr val="ff0000"/>
                </a:solidFill>
                <a:latin typeface="Calibri"/>
              </a:rPr>
              <a:t>Ø 1,2 ha p.P./ Ø 103 Mio. 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Calibri"/>
              </a:rPr>
              <a:t>China (1,3 Mrd. E. )           </a:t>
            </a: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Ø 0,4 ha p.P. /Ø 518 Mio. 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Calibri"/>
              </a:rPr>
              <a:t>Indien ( 1,1 Mrd. E.)          </a:t>
            </a: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Ø 0,2 ha p.P./Ø 200 Mio. 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Flächenverfügbarke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23640" y="1341360"/>
            <a:ext cx="3106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2050 werden nur noch 0,15 ha pro Person verfügbar sein (FAO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2025 werden ca.740 Mio. Menschen von Landknappheit betroffen sei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mmer mehr Menschen steht immer weniger Ackerfläche zur Verfügu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3564000" y="1341360"/>
            <a:ext cx="5330880" cy="3301920"/>
          </a:xfrm>
          <a:prstGeom prst="rect">
            <a:avLst/>
          </a:prstGeom>
          <a:ln w="0">
            <a:noFill/>
          </a:ln>
        </p:spPr>
      </p:pic>
      <p:sp>
        <p:nvSpPr>
          <p:cNvPr id="56" name="Textfeld 6"/>
          <p:cNvSpPr/>
          <p:nvPr/>
        </p:nvSpPr>
        <p:spPr>
          <a:xfrm>
            <a:off x="3708360" y="458136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Calibri"/>
              </a:rPr>
              <a:t>Dt. Stiftung Weltbevölkerung, 1999, Population Action International, 200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feld 8"/>
          <p:cNvSpPr/>
          <p:nvPr/>
        </p:nvSpPr>
        <p:spPr>
          <a:xfrm>
            <a:off x="2484360" y="5516640"/>
            <a:ext cx="60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de-DE" sz="3200" spc="-1" strike="noStrike">
                <a:solidFill>
                  <a:srgbClr val="ff0000"/>
                </a:solidFill>
                <a:latin typeface="Calibri"/>
              </a:rPr>
              <a:t>Böden sind global unter Dru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Landwirtschaftliche Nutzu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5998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37,7% der weltweiten Landfläche, d.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4,9 Mrd. ha gelten als landwirtschaftliche Nutzfläc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69,4 %, d.h. 3,4 Mrd. ha sind Dauergrün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28,6 %, d.h. 1,4 Mrd. ha sind Acker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10,9%, d.h. 152 Mio. ha sind permanente Ackerkultur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feld 3"/>
          <p:cNvSpPr/>
          <p:nvPr/>
        </p:nvSpPr>
        <p:spPr>
          <a:xfrm>
            <a:off x="6443640" y="5013360"/>
            <a:ext cx="1800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</a:rPr>
              <a:t>(Quelle: </a:t>
            </a:r>
            <a:r>
              <a:rPr b="0" i="1" lang="de-DE" sz="1100" spc="-1" strike="noStrike">
                <a:solidFill>
                  <a:srgbClr val="000000"/>
                </a:solidFill>
                <a:latin typeface="Calibri"/>
              </a:rPr>
              <a:t>FAOSTAT, 201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feld 4"/>
          <p:cNvSpPr/>
          <p:nvPr/>
        </p:nvSpPr>
        <p:spPr>
          <a:xfrm>
            <a:off x="755640" y="5589720"/>
            <a:ext cx="76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de-DE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de-DE" sz="3600" spc="-1" strike="noStrike">
                <a:solidFill>
                  <a:srgbClr val="ff0000"/>
                </a:solidFill>
                <a:latin typeface="Calibri"/>
              </a:rPr>
              <a:t>Konkurrenz um Teller, Trog und Ta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Können alle Menschen noch satt werde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Heut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1 Milliarde Menschen hungernd u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2 MilliardenMenschen mit Mangel-und Fehlernähru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und steigender Fleischkons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feld 8"/>
          <p:cNvSpPr/>
          <p:nvPr/>
        </p:nvSpPr>
        <p:spPr>
          <a:xfrm>
            <a:off x="900000" y="4221000"/>
            <a:ext cx="62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de-DE" sz="3200" spc="-1" strike="noStrike">
                <a:solidFill>
                  <a:srgbClr val="ff0000"/>
                </a:solidFill>
                <a:latin typeface="Calibri"/>
              </a:rPr>
              <a:t>Nahrungsbedar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de-DE" sz="3200" spc="-1" strike="noStrike">
                <a:solidFill>
                  <a:srgbClr val="ff0000"/>
                </a:solidFill>
                <a:latin typeface="Calibri"/>
              </a:rPr>
              <a:t>+ 42% bis 2030 + 70% bis 20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feld 9"/>
          <p:cNvSpPr/>
          <p:nvPr/>
        </p:nvSpPr>
        <p:spPr>
          <a:xfrm>
            <a:off x="5580000" y="5516640"/>
            <a:ext cx="201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</a:rPr>
              <a:t>(Quelle: FAOSTAT 201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Weltbevölkerung – Planet Er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39280" y="1412640"/>
            <a:ext cx="43196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teigende Nachfr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feld 4"/>
          <p:cNvSpPr/>
          <p:nvPr/>
        </p:nvSpPr>
        <p:spPr>
          <a:xfrm>
            <a:off x="3132000" y="234936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Flächenkonkurren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feld 7"/>
          <p:cNvSpPr/>
          <p:nvPr/>
        </p:nvSpPr>
        <p:spPr>
          <a:xfrm>
            <a:off x="3419640" y="321300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Nutzungsdru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feld 8"/>
          <p:cNvSpPr/>
          <p:nvPr/>
        </p:nvSpPr>
        <p:spPr>
          <a:xfrm>
            <a:off x="324000" y="4437000"/>
            <a:ext cx="8640720" cy="2714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0000"/>
                </a:solidFill>
                <a:latin typeface="Calibri"/>
              </a:rPr>
              <a:t>Bodendegradier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          </a:t>
            </a: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d.h. Verlust von Bodenfunktionen und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          </a:t>
            </a: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Bodenleistung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de-DE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de-DE" sz="3600" spc="-1" strike="noStrike">
                <a:solidFill>
                  <a:srgbClr val="ff0000"/>
                </a:solidFill>
                <a:latin typeface="Calibri"/>
              </a:rPr>
              <a:t>abnehmende Bodenproduktivitä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feld 10"/>
          <p:cNvSpPr/>
          <p:nvPr/>
        </p:nvSpPr>
        <p:spPr>
          <a:xfrm>
            <a:off x="5219640" y="148428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begrenztes Angeb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feil nach links und rechts 11"/>
          <p:cNvSpPr/>
          <p:nvPr/>
        </p:nvSpPr>
        <p:spPr>
          <a:xfrm>
            <a:off x="4211640" y="1628640"/>
            <a:ext cx="865080" cy="287640"/>
          </a:xfrm>
          <a:prstGeom prst="leftRightArrow">
            <a:avLst>
              <a:gd name="adj1" fmla="val 50000"/>
              <a:gd name="adj2" fmla="val 49944"/>
            </a:avLst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feil nach unten 12"/>
          <p:cNvSpPr/>
          <p:nvPr/>
        </p:nvSpPr>
        <p:spPr>
          <a:xfrm>
            <a:off x="4427640" y="2060640"/>
            <a:ext cx="36036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feil nach unten 13"/>
          <p:cNvSpPr/>
          <p:nvPr/>
        </p:nvSpPr>
        <p:spPr>
          <a:xfrm>
            <a:off x="4427640" y="2852640"/>
            <a:ext cx="36036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feil nach unten 14"/>
          <p:cNvSpPr/>
          <p:nvPr/>
        </p:nvSpPr>
        <p:spPr>
          <a:xfrm>
            <a:off x="4427640" y="3860640"/>
            <a:ext cx="36036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4T07:17:22Z</dcterms:created>
  <dc:creator>GEO-Seminar Schmidt</dc:creator>
  <dc:description/>
  <dc:language>en-US</dc:language>
  <cp:lastModifiedBy>Manz</cp:lastModifiedBy>
  <dcterms:modified xsi:type="dcterms:W3CDTF">2012-11-08T13:11:50Z</dcterms:modified>
  <cp:revision>74</cp:revision>
  <dc:subject/>
  <dc:title>Boden aktuell</dc:title>
</cp:coreProperties>
</file>