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F97-B2BD-40F9-867B-228AFF51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3A9-67B6-4333-8A9C-67CFE45E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766-EE99-49B1-A569-9E61EFD2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A31-2980-4D78-8BA3-3F6DB27A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6FB-B598-434C-BDE3-BEE3CE08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FFB-7D23-451C-A3D4-DD806572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B72-FA62-4830-968B-48E93C03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878-8ECD-4586-992F-96BEC75A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CFF-A87F-434B-87B8-0E306058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3CC-89F9-4A95-8F6D-FAF3251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139-6F9D-44B5-8A21-6C7F6409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0FC-FAC7-492A-BD68-EB93B908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AAB6-8899-4D51-B7D0-2604ACEA6F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5012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14Z</dcterms:modified>
  <cp:revision>73</cp:revision>
  <dc:subject/>
  <dc:title>Boden aktuell</dc:title>
</cp:coreProperties>
</file>