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AB3-FBB1-44BC-B664-1585977B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321-95F6-4F7A-8957-4B931E13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7EE-D8B6-4F8F-98B7-F9772EE8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168-4A9C-4501-A38C-3732FDDE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0A9-F092-403C-AFB9-4BF6FA7A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5A6-4C10-40E1-809C-A4021CDE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968-BF8E-43CA-AF2C-EA1C73A6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A42-FFE5-4E4D-80A0-659C1F76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290-618C-4463-A16B-E8C9BA57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23C-E0B5-49A7-A03D-77A87D88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047-D413-42AB-B000-84F67E7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A97-D7D2-4044-9E51-E785CF5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2B0-5EB8-46EF-9DAD-65D532CC08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50125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14Z</dcterms:modified>
  <cp:revision>73</cp:revision>
  <dc:subject/>
  <dc:title>Boden aktuell</dc:title>
</cp:coreProperties>
</file>